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694863" cy="758825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 April 20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2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677A21-B763-402E-870D-366EDCFDED29}" type="datetime3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4"/>
          </p:nvPr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87FE68-DCB0-49B6-8190-1BAE8E079C7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206360" y="696960"/>
            <a:ext cx="4448160" cy="34844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Date Placeholder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6074D1-DF5A-4E5C-9BA0-E3E2856D3E02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Header Placeholder 4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pril 20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206360" y="696960"/>
            <a:ext cx="4448160" cy="34844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pril 20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AD047F-27FC-471F-9D17-272AD7247513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206360" y="696960"/>
            <a:ext cx="4448160" cy="34844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pril 20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6762B1-5AF9-41E1-A3D9-B45B4F3C17F2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206360" y="696960"/>
            <a:ext cx="4448160" cy="34844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pril 20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FDC343-E234-4829-8819-659B51198E36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06360" y="696960"/>
            <a:ext cx="4448160" cy="34844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pril 20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D97E90-91B3-4375-84AA-00D3B3375324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206360" y="696960"/>
            <a:ext cx="4448160" cy="34844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pril 20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6F7132-FE31-4A67-8B23-FA8F4607664D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206360" y="696960"/>
            <a:ext cx="4448160" cy="34844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 April 201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BE8CCC-571D-4550-85E3-B8F190612C79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84E791-B79F-416A-A748-83621A432905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AB3FC4-F0E2-4D00-88E5-D26AA2F796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452840" cy="34862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F61B77-04AA-4D94-BD8D-329B307F48B7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6EB22F-5485-4326-B97F-28217A4DC44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45284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75340C-2869-44F6-ABAA-BDA73D83A276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72B72F-AA4D-4C9B-B147-D48EF6869E3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452840" cy="3486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29E3BB-EDDB-4517-BF97-48AAB795BEEB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FCD778-0D24-4E33-A6D8-689E4489DD4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rawing2"/>
          <p:cNvPicPr/>
          <p:nvPr/>
        </p:nvPicPr>
        <p:blipFill>
          <a:blip r:embed="rId2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11160" y="6562800"/>
            <a:ext cx="2050920" cy="96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ack font:  Recruit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Green font: Deployed On-Sit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Red font: Departing or Vaca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lue font:  New Hire / In process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cc00ff"/>
                </a:solidFill>
                <a:latin typeface="Arial"/>
              </a:rPr>
              <a:t>Violet font:  Internal Transf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0"/>
          <p:cNvGrpSpPr/>
          <p:nvPr/>
        </p:nvGrpSpPr>
        <p:grpSpPr>
          <a:xfrm>
            <a:off x="4038480" y="5845320"/>
            <a:ext cx="5618160" cy="1690560"/>
            <a:chOff x="4038480" y="5845320"/>
            <a:chExt cx="5618160" cy="1690560"/>
          </a:xfrm>
        </p:grpSpPr>
        <p:sp>
          <p:nvSpPr>
            <p:cNvPr id="3" name=""/>
            <p:cNvSpPr/>
            <p:nvPr/>
          </p:nvSpPr>
          <p:spPr>
            <a:xfrm>
              <a:off x="4038480" y="584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59400" y="584532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dget Analyst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580080" y="584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 - 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01000" y="584532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gistician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038480" y="597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59400" y="59752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dget Analys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80080" y="597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01000" y="59752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38480" y="610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559400" y="610560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- Entry Leve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80080" y="610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101000" y="610560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038480" y="623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559400" y="623556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80080" y="623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101000" y="623556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Administrator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038480" y="63658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59400" y="63658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80080" y="63658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01000" y="63658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Assistan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038480" y="6496200"/>
              <a:ext cx="5209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559400" y="6496200"/>
              <a:ext cx="20206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580080" y="6496200"/>
              <a:ext cx="5209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D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01000" y="6496200"/>
              <a:ext cx="25556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Manager, Deputy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38480" y="66247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A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59400" y="662472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Analyst 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580080" y="66247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101000" y="662472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mer Analys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038480" y="67546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59400" y="67546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Analyst  -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580080" y="67546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01000" y="67546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038480" y="688500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A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559400" y="688500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Analyst 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580080" y="688500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101000" y="688500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038480" y="701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559400" y="701532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580080" y="701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101000" y="701532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038480" y="714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9400" y="71452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80080" y="714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01000" y="71452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8480" y="727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9400" y="727560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0080" y="727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01000" y="727560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740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59400" y="740556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ogistician – Senior 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0080" y="740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01000" y="740556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940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8008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0100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8480" y="59752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38480" y="61056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8480" y="623556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63658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64962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662472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67546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68850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480" y="701532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71452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8480" y="72756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38480" y="740556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65664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8480" y="584532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75358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7"/>
          <p:cNvSpPr/>
          <p:nvPr/>
        </p:nvSpPr>
        <p:spPr>
          <a:xfrm>
            <a:off x="-65160" y="9360"/>
            <a:ext cx="1552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NOVEMBER 20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8"/>
          <p:cNvSpPr/>
          <p:nvPr/>
        </p:nvSpPr>
        <p:spPr>
          <a:xfrm>
            <a:off x="2303640" y="-1584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9"/>
          <p:cNvSpPr/>
          <p:nvPr/>
        </p:nvSpPr>
        <p:spPr>
          <a:xfrm>
            <a:off x="9107640" y="0"/>
            <a:ext cx="70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CFE836-DDD6-4968-9664-AAD48BC0035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Drawing2"/>
          <p:cNvPicPr/>
          <p:nvPr/>
        </p:nvPicPr>
        <p:blipFill>
          <a:blip r:embed="rId3"/>
          <a:stretch/>
        </p:blipFill>
        <p:spPr>
          <a:xfrm>
            <a:off x="-426960" y="-295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584" name="TextBox 4"/>
          <p:cNvSpPr/>
          <p:nvPr/>
        </p:nvSpPr>
        <p:spPr>
          <a:xfrm>
            <a:off x="-411120" y="-15840"/>
            <a:ext cx="1010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E9A8A8-58BF-4DDE-B461-F6BA5D208E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-431640" y="209520"/>
            <a:ext cx="1012500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C and Address Inform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54"/>
          <p:cNvSpPr/>
          <p:nvPr/>
        </p:nvSpPr>
        <p:spPr>
          <a:xfrm flipH="1" flipV="1">
            <a:off x="460440" y="2390400"/>
            <a:ext cx="1440" cy="14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55"/>
          <p:cNvSpPr/>
          <p:nvPr/>
        </p:nvSpPr>
        <p:spPr>
          <a:xfrm flipV="1">
            <a:off x="2016000" y="2389320"/>
            <a:ext cx="0" cy="12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58"/>
          <p:cNvSpPr/>
          <p:nvPr/>
        </p:nvSpPr>
        <p:spPr>
          <a:xfrm flipV="1">
            <a:off x="3349800" y="2385720"/>
            <a:ext cx="144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60"/>
          <p:cNvSpPr/>
          <p:nvPr/>
        </p:nvSpPr>
        <p:spPr>
          <a:xfrm flipH="1" flipV="1">
            <a:off x="6243120" y="2384280"/>
            <a:ext cx="3240" cy="168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61"/>
          <p:cNvSpPr/>
          <p:nvPr/>
        </p:nvSpPr>
        <p:spPr>
          <a:xfrm flipH="1" flipV="1">
            <a:off x="7558200" y="2379240"/>
            <a:ext cx="144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_s2072"/>
          <p:cNvSpPr/>
          <p:nvPr/>
        </p:nvSpPr>
        <p:spPr>
          <a:xfrm>
            <a:off x="4192560" y="2529000"/>
            <a:ext cx="1347840" cy="4638600"/>
          </a:xfrm>
          <a:custGeom>
            <a:avLst/>
            <a:gdLst>
              <a:gd name="textAreaLeft" fmla="*/ 65520 w 1347840"/>
              <a:gd name="textAreaRight" fmla="*/ 1282320 w 1347840"/>
              <a:gd name="textAreaTop" fmla="*/ 65520 h 4638600"/>
              <a:gd name="textAreaBottom" fmla="*/ 4573080 h 4638600"/>
            </a:gdLst>
            <a:ahLst/>
            <a:rect l="textAreaLeft" t="textAreaTop" r="textAreaRight" b="textAreaBottom"/>
            <a:pathLst>
              <a:path w="21600" h="74322">
                <a:moveTo>
                  <a:pt x="3600" y="0"/>
                </a:moveTo>
                <a:arcTo wR="3600" hR="3600" stAng="16200000" swAng="-5400000"/>
                <a:lnTo>
                  <a:pt x="0" y="70722"/>
                </a:lnTo>
                <a:arcTo wR="3600" hR="3600" stAng="10800000" swAng="-5400000"/>
                <a:lnTo>
                  <a:pt x="18000" y="74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_s2073"/>
          <p:cNvSpPr/>
          <p:nvPr/>
        </p:nvSpPr>
        <p:spPr>
          <a:xfrm>
            <a:off x="5576760" y="2552760"/>
            <a:ext cx="1338480" cy="4614840"/>
          </a:xfrm>
          <a:custGeom>
            <a:avLst/>
            <a:gdLst>
              <a:gd name="textAreaLeft" fmla="*/ 65160 w 1338480"/>
              <a:gd name="textAreaRight" fmla="*/ 1273320 w 1338480"/>
              <a:gd name="textAreaTop" fmla="*/ 65160 h 4614840"/>
              <a:gd name="textAreaBottom" fmla="*/ 4549680 h 4614840"/>
            </a:gdLst>
            <a:ahLst/>
            <a:rect l="textAreaLeft" t="textAreaTop" r="textAreaRight" b="textAreaBottom"/>
            <a:pathLst>
              <a:path w="21600" h="74459">
                <a:moveTo>
                  <a:pt x="3600" y="0"/>
                </a:moveTo>
                <a:arcTo wR="3600" hR="3600" stAng="16200000" swAng="-5400000"/>
                <a:lnTo>
                  <a:pt x="0" y="70859"/>
                </a:lnTo>
                <a:arcTo wR="3600" hR="3600" stAng="10800000" swAng="-5400000"/>
                <a:lnTo>
                  <a:pt x="18000" y="74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_s2079"/>
          <p:cNvSpPr/>
          <p:nvPr/>
        </p:nvSpPr>
        <p:spPr>
          <a:xfrm>
            <a:off x="6946920" y="2527200"/>
            <a:ext cx="1305000" cy="4640400"/>
          </a:xfrm>
          <a:custGeom>
            <a:avLst/>
            <a:gdLst>
              <a:gd name="textAreaLeft" fmla="*/ 63720 w 1305000"/>
              <a:gd name="textAreaRight" fmla="*/ 1241280 w 1305000"/>
              <a:gd name="textAreaTop" fmla="*/ 63720 h 4640400"/>
              <a:gd name="textAreaBottom" fmla="*/ 4576680 h 4640400"/>
            </a:gdLst>
            <a:ahLst/>
            <a:rect l="textAreaLeft" t="textAreaTop" r="textAreaRight" b="textAreaBottom"/>
            <a:pathLst>
              <a:path w="21600" h="76791">
                <a:moveTo>
                  <a:pt x="3600" y="0"/>
                </a:moveTo>
                <a:arcTo wR="3600" hR="3600" stAng="16200000" swAng="-5400000"/>
                <a:lnTo>
                  <a:pt x="0" y="73191"/>
                </a:lnTo>
                <a:arcTo wR="3600" hR="3600" stAng="10800000" swAng="-5400000"/>
                <a:lnTo>
                  <a:pt x="18000" y="76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" rIns="540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_s2072"/>
          <p:cNvSpPr/>
          <p:nvPr/>
        </p:nvSpPr>
        <p:spPr>
          <a:xfrm>
            <a:off x="1341360" y="2516040"/>
            <a:ext cx="1351080" cy="4651560"/>
          </a:xfrm>
          <a:custGeom>
            <a:avLst/>
            <a:gdLst>
              <a:gd name="textAreaLeft" fmla="*/ 65880 w 1351080"/>
              <a:gd name="textAreaRight" fmla="*/ 1285200 w 1351080"/>
              <a:gd name="textAreaTop" fmla="*/ 65880 h 4651560"/>
              <a:gd name="textAreaBottom" fmla="*/ 4585680 h 4651560"/>
            </a:gdLst>
            <a:ahLst/>
            <a:rect l="textAreaLeft" t="textAreaTop" r="textAreaRight" b="textAreaBottom"/>
            <a:pathLst>
              <a:path w="21600" h="74351">
                <a:moveTo>
                  <a:pt x="3600" y="0"/>
                </a:moveTo>
                <a:arcTo wR="3600" hR="3600" stAng="16200000" swAng="-5400000"/>
                <a:lnTo>
                  <a:pt x="0" y="70751"/>
                </a:lnTo>
                <a:arcTo wR="3600" hR="3600" stAng="10800000" swAng="-5400000"/>
                <a:lnTo>
                  <a:pt x="18000" y="74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_s2070"/>
          <p:cNvSpPr/>
          <p:nvPr/>
        </p:nvSpPr>
        <p:spPr>
          <a:xfrm>
            <a:off x="3017880" y="538200"/>
            <a:ext cx="3371760" cy="1200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_s2072"/>
          <p:cNvSpPr/>
          <p:nvPr/>
        </p:nvSpPr>
        <p:spPr>
          <a:xfrm>
            <a:off x="4046400" y="1844640"/>
            <a:ext cx="1314720" cy="333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_s2072"/>
          <p:cNvSpPr/>
          <p:nvPr/>
        </p:nvSpPr>
        <p:spPr>
          <a:xfrm>
            <a:off x="2728800" y="2516040"/>
            <a:ext cx="1416240" cy="4651560"/>
          </a:xfrm>
          <a:custGeom>
            <a:avLst/>
            <a:gdLst>
              <a:gd name="textAreaLeft" fmla="*/ 69120 w 1416240"/>
              <a:gd name="textAreaRight" fmla="*/ 1347120 w 1416240"/>
              <a:gd name="textAreaTop" fmla="*/ 69120 h 4651560"/>
              <a:gd name="textAreaBottom" fmla="*/ 4582440 h 4651560"/>
            </a:gdLst>
            <a:ahLst/>
            <a:rect l="textAreaLeft" t="textAreaTop" r="textAreaRight" b="textAreaBottom"/>
            <a:pathLst>
              <a:path w="21600" h="70931">
                <a:moveTo>
                  <a:pt x="3600" y="0"/>
                </a:moveTo>
                <a:arcTo wR="3600" hR="3600" stAng="16200000" swAng="-5400000"/>
                <a:lnTo>
                  <a:pt x="0" y="67331"/>
                </a:lnTo>
                <a:arcTo wR="3600" hR="3600" stAng="10800000" swAng="-5400000"/>
                <a:lnTo>
                  <a:pt x="18000" y="70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4680" tIns="2520" bIns="252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_s2079"/>
          <p:cNvSpPr/>
          <p:nvPr/>
        </p:nvSpPr>
        <p:spPr>
          <a:xfrm>
            <a:off x="8300880" y="2530440"/>
            <a:ext cx="1292400" cy="4637160"/>
          </a:xfrm>
          <a:custGeom>
            <a:avLst/>
            <a:gdLst>
              <a:gd name="textAreaLeft" fmla="*/ 63000 w 1292400"/>
              <a:gd name="textAreaRight" fmla="*/ 1229400 w 1292400"/>
              <a:gd name="textAreaTop" fmla="*/ 63000 h 4637160"/>
              <a:gd name="textAreaBottom" fmla="*/ 4574160 h 4637160"/>
            </a:gdLst>
            <a:ahLst/>
            <a:rect l="textAreaLeft" t="textAreaTop" r="textAreaRight" b="textAreaBottom"/>
            <a:pathLst>
              <a:path w="21600" h="77486">
                <a:moveTo>
                  <a:pt x="3600" y="0"/>
                </a:moveTo>
                <a:arcTo wR="3600" hR="3600" stAng="16200000" swAng="-5400000"/>
                <a:lnTo>
                  <a:pt x="0" y="73886"/>
                </a:lnTo>
                <a:arcTo wR="3600" hR="3600" stAng="10800000" swAng="-5400000"/>
                <a:lnTo>
                  <a:pt x="18000" y="77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" rIns="540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_s2072"/>
          <p:cNvSpPr/>
          <p:nvPr/>
        </p:nvSpPr>
        <p:spPr>
          <a:xfrm>
            <a:off x="0" y="2516040"/>
            <a:ext cx="1320840" cy="4651560"/>
          </a:xfrm>
          <a:custGeom>
            <a:avLst/>
            <a:gdLst>
              <a:gd name="textAreaLeft" fmla="*/ 64440 w 1320840"/>
              <a:gd name="textAreaRight" fmla="*/ 1256400 w 1320840"/>
              <a:gd name="textAreaTop" fmla="*/ 64440 h 4651560"/>
              <a:gd name="textAreaBottom" fmla="*/ 4587120 h 4651560"/>
            </a:gdLst>
            <a:ahLst/>
            <a:rect l="textAreaLeft" t="textAreaTop" r="textAreaRight" b="textAreaBottom"/>
            <a:pathLst>
              <a:path w="21600" h="76053">
                <a:moveTo>
                  <a:pt x="3600" y="0"/>
                </a:moveTo>
                <a:arcTo wR="3600" hR="3600" stAng="16200000" swAng="-5400000"/>
                <a:lnTo>
                  <a:pt x="0" y="72453"/>
                </a:lnTo>
                <a:arcTo wR="3600" hR="3600" stAng="10800000" swAng="-5400000"/>
                <a:lnTo>
                  <a:pt x="18000" y="760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680" tIns="2520" bIns="252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9"/>
          <p:cNvSpPr/>
          <p:nvPr/>
        </p:nvSpPr>
        <p:spPr>
          <a:xfrm flipH="1" flipV="1">
            <a:off x="4865760" y="2384280"/>
            <a:ext cx="1440" cy="144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62"/>
          <p:cNvSpPr/>
          <p:nvPr/>
        </p:nvSpPr>
        <p:spPr>
          <a:xfrm flipV="1">
            <a:off x="8904240" y="2381400"/>
            <a:ext cx="0" cy="149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71"/>
          <p:cNvSpPr/>
          <p:nvPr/>
        </p:nvSpPr>
        <p:spPr>
          <a:xfrm flipV="1">
            <a:off x="461880" y="2377800"/>
            <a:ext cx="8440920" cy="11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78"/>
          <p:cNvSpPr/>
          <p:nvPr/>
        </p:nvSpPr>
        <p:spPr>
          <a:xfrm flipH="1">
            <a:off x="4695840" y="2178000"/>
            <a:ext cx="1440" cy="203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5"/>
          <p:cNvSpPr/>
          <p:nvPr/>
        </p:nvSpPr>
        <p:spPr>
          <a:xfrm>
            <a:off x="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9 APRIL 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26"/>
          <p:cNvSpPr/>
          <p:nvPr/>
        </p:nvSpPr>
        <p:spPr>
          <a:xfrm>
            <a:off x="4703760" y="1738440"/>
            <a:ext cx="0" cy="10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383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5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39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39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39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dt" idx="1"/>
          </p:nvPr>
        </p:nvSpPr>
        <p:spPr>
          <a:xfrm>
            <a:off x="7431120" y="7221240"/>
            <a:ext cx="2262240" cy="3682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3D92-DDC7-4AA9-B83A-A756BE064DDA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cxnSp>
        <p:nvCxnSpPr>
          <p:cNvPr id="152" name="Elbow Connector 7"/>
          <p:cNvCxnSpPr/>
          <p:nvPr/>
        </p:nvCxnSpPr>
        <p:spPr>
          <a:xfrm flipV="1">
            <a:off x="1987200" y="1310760"/>
            <a:ext cx="1424520" cy="548640"/>
          </a:xfrm>
          <a:prstGeom prst="bentConnector3">
            <a:avLst>
              <a:gd name="adj1" fmla="val 7735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53" name="Straight Connector 82"/>
          <p:cNvSpPr/>
          <p:nvPr/>
        </p:nvSpPr>
        <p:spPr>
          <a:xfrm>
            <a:off x="5978520" y="1311120"/>
            <a:ext cx="620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6"/>
          <p:cNvSpPr/>
          <p:nvPr/>
        </p:nvSpPr>
        <p:spPr>
          <a:xfrm flipV="1">
            <a:off x="2889360" y="3343320"/>
            <a:ext cx="0" cy="123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2071"/>
          <p:cNvSpPr/>
          <p:nvPr/>
        </p:nvSpPr>
        <p:spPr>
          <a:xfrm>
            <a:off x="325440" y="3906720"/>
            <a:ext cx="1736640" cy="822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Anaconda, Bal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2071"/>
          <p:cNvSpPr/>
          <p:nvPr/>
        </p:nvSpPr>
        <p:spPr>
          <a:xfrm>
            <a:off x="5361120" y="3909960"/>
            <a:ext cx="1657080" cy="14288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ram AB, Bagram, AF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2"/>
          <p:cNvSpPr/>
          <p:nvPr/>
        </p:nvSpPr>
        <p:spPr>
          <a:xfrm flipH="1">
            <a:off x="4680000" y="1755720"/>
            <a:ext cx="1440" cy="993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_s2070"/>
          <p:cNvSpPr/>
          <p:nvPr/>
        </p:nvSpPr>
        <p:spPr>
          <a:xfrm>
            <a:off x="3402000" y="646200"/>
            <a:ext cx="2581200" cy="11491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" rIns="5040" tIns="2520" bIns="252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7"/>
          <p:cNvSpPr/>
          <p:nvPr/>
        </p:nvSpPr>
        <p:spPr>
          <a:xfrm>
            <a:off x="1049400" y="836640"/>
            <a:ext cx="1861920" cy="9144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9"/>
          <p:cNvSpPr/>
          <p:nvPr/>
        </p:nvSpPr>
        <p:spPr>
          <a:xfrm>
            <a:off x="1049400" y="1968480"/>
            <a:ext cx="1861920" cy="9144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Controll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7"/>
          <p:cNvSpPr/>
          <p:nvPr/>
        </p:nvSpPr>
        <p:spPr>
          <a:xfrm flipV="1">
            <a:off x="6570720" y="3340080"/>
            <a:ext cx="0" cy="123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_s2071"/>
          <p:cNvSpPr/>
          <p:nvPr/>
        </p:nvSpPr>
        <p:spPr>
          <a:xfrm>
            <a:off x="2160720" y="3909960"/>
            <a:ext cx="1736640" cy="822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_s2071"/>
          <p:cNvSpPr/>
          <p:nvPr/>
        </p:nvSpPr>
        <p:spPr>
          <a:xfrm>
            <a:off x="2157480" y="4819680"/>
            <a:ext cx="1736640" cy="822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llil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_s2071"/>
          <p:cNvSpPr/>
          <p:nvPr/>
        </p:nvSpPr>
        <p:spPr>
          <a:xfrm>
            <a:off x="320760" y="4818240"/>
            <a:ext cx="1736640" cy="822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B Speicher, Tikrit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8"/>
          <p:cNvSpPr/>
          <p:nvPr/>
        </p:nvSpPr>
        <p:spPr>
          <a:xfrm>
            <a:off x="-423720" y="196920"/>
            <a:ext cx="10117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- Management Te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1"/>
          <p:cNvSpPr/>
          <p:nvPr/>
        </p:nvSpPr>
        <p:spPr>
          <a:xfrm>
            <a:off x="6354720" y="973080"/>
            <a:ext cx="1784520" cy="7034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C Deputy Regional Manag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2"/>
          <p:cNvSpPr/>
          <p:nvPr/>
        </p:nvSpPr>
        <p:spPr>
          <a:xfrm flipH="1">
            <a:off x="2972880" y="3424320"/>
            <a:ext cx="318780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1"/>
          <p:cNvSpPr/>
          <p:nvPr/>
        </p:nvSpPr>
        <p:spPr>
          <a:xfrm>
            <a:off x="6161040" y="3224160"/>
            <a:ext cx="1943280" cy="3999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32"/>
          <p:cNvSpPr/>
          <p:nvPr/>
        </p:nvSpPr>
        <p:spPr>
          <a:xfrm>
            <a:off x="7018200" y="4624560"/>
            <a:ext cx="228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_s2070"/>
          <p:cNvSpPr/>
          <p:nvPr/>
        </p:nvSpPr>
        <p:spPr>
          <a:xfrm>
            <a:off x="3589200" y="2766960"/>
            <a:ext cx="2187720" cy="10857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" rIns="5040" tIns="2520" bIns="2520" anchor="t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ATER OPERATIONS MANAG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4"/>
          <p:cNvSpPr/>
          <p:nvPr/>
        </p:nvSpPr>
        <p:spPr>
          <a:xfrm>
            <a:off x="1979640" y="175104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Connector 42"/>
          <p:cNvCxnSpPr/>
          <p:nvPr/>
        </p:nvCxnSpPr>
        <p:spPr>
          <a:xfrm rot="5400000">
            <a:off x="1154160" y="4283640"/>
            <a:ext cx="1848600" cy="43560"/>
          </a:xfrm>
          <a:prstGeom prst="bentConnector2">
            <a:avLst/>
          </a:prstGeom>
          <a:ln w="3240">
            <a:solidFill>
              <a:srgbClr val="000000"/>
            </a:solidFill>
            <a:round/>
          </a:ln>
        </p:spPr>
      </p:cxnSp>
      <p:sp>
        <p:nvSpPr>
          <p:cNvPr id="173" name="Straight Connector 24"/>
          <p:cNvSpPr/>
          <p:nvPr/>
        </p:nvSpPr>
        <p:spPr>
          <a:xfrm flipH="1" flipV="1">
            <a:off x="2057400" y="5229360"/>
            <a:ext cx="1000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25"/>
          <p:cNvSpPr/>
          <p:nvPr/>
        </p:nvSpPr>
        <p:spPr>
          <a:xfrm flipH="1" flipV="1">
            <a:off x="2062080" y="4317480"/>
            <a:ext cx="98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6"/>
          <p:cNvSpPr/>
          <p:nvPr/>
        </p:nvSpPr>
        <p:spPr>
          <a:xfrm>
            <a:off x="7132680" y="3624120"/>
            <a:ext cx="0" cy="9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1"/>
          <p:cNvSpPr/>
          <p:nvPr/>
        </p:nvSpPr>
        <p:spPr>
          <a:xfrm>
            <a:off x="1131840" y="3224160"/>
            <a:ext cx="1943280" cy="3999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_s2071"/>
          <p:cNvSpPr/>
          <p:nvPr/>
        </p:nvSpPr>
        <p:spPr>
          <a:xfrm>
            <a:off x="7246800" y="3909960"/>
            <a:ext cx="1722600" cy="14288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andahar, AF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3692520" y="709560"/>
            <a:ext cx="20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,  South West Asia (SWA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216" name="_s2071"/>
          <p:cNvSpPr/>
          <p:nvPr/>
        </p:nvSpPr>
        <p:spPr>
          <a:xfrm>
            <a:off x="3787920" y="1311120"/>
            <a:ext cx="3614760" cy="4383360"/>
          </a:xfrm>
          <a:custGeom>
            <a:avLst/>
            <a:gdLst>
              <a:gd name="textAreaLeft" fmla="*/ 82080 w 3614760"/>
              <a:gd name="textAreaRight" fmla="*/ 3532680 w 3614760"/>
              <a:gd name="textAreaTop" fmla="*/ 82080 h 4383360"/>
              <a:gd name="textAreaBottom" fmla="*/ 4301280 h 4383360"/>
            </a:gdLst>
            <a:ahLst/>
            <a:rect l="textAreaLeft" t="textAreaTop" r="textAreaRight" b="textAreaBottom"/>
            <a:pathLst>
              <a:path w="21600" h="26192">
                <a:moveTo>
                  <a:pt x="1678" y="0"/>
                </a:moveTo>
                <a:arcTo wR="1678" hR="1678" stAng="16200000" swAng="-5400000"/>
                <a:lnTo>
                  <a:pt x="0" y="24514"/>
                </a:lnTo>
                <a:arcTo wR="1678" hR="1678" stAng="10800000" swAng="-5400000"/>
                <a:lnTo>
                  <a:pt x="19922" y="26192"/>
                </a:lnTo>
                <a:arcTo wR="1678" hR="1678" stAng="5400000" swAng="-5400000"/>
                <a:lnTo>
                  <a:pt x="21600" y="1678"/>
                </a:lnTo>
                <a:arcTo wR="1678" hR="1678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ater Generator Facil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2071"/>
          <p:cNvSpPr/>
          <p:nvPr/>
        </p:nvSpPr>
        <p:spPr>
          <a:xfrm>
            <a:off x="0" y="1311120"/>
            <a:ext cx="3724200" cy="4383360"/>
          </a:xfrm>
          <a:custGeom>
            <a:avLst/>
            <a:gdLst>
              <a:gd name="textAreaLeft" fmla="*/ 79200 w 3724200"/>
              <a:gd name="textAreaRight" fmla="*/ 3645000 w 3724200"/>
              <a:gd name="textAreaTop" fmla="*/ 79200 h 4383360"/>
              <a:gd name="textAreaBottom" fmla="*/ 4304160 h 4383360"/>
            </a:gdLst>
            <a:ahLst/>
            <a:rect l="textAreaLeft" t="textAreaTop" r="textAreaRight" b="textAreaBottom"/>
            <a:pathLst>
              <a:path w="21600" h="25423">
                <a:moveTo>
                  <a:pt x="1575" y="0"/>
                </a:moveTo>
                <a:arcTo wR="1575" hR="1575" stAng="16200000" swAng="-5400000"/>
                <a:lnTo>
                  <a:pt x="0" y="23848"/>
                </a:lnTo>
                <a:arcTo wR="1575" hR="1575" stAng="10800000" swAng="-5400000"/>
                <a:lnTo>
                  <a:pt x="20025" y="25423"/>
                </a:lnTo>
                <a:arcTo wR="1575" hR="1575" stAng="5400000" swAng="-5400000"/>
                <a:lnTo>
                  <a:pt x="21600" y="1575"/>
                </a:lnTo>
                <a:arcTo wR="1575" hR="1575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ater Support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5"/>
          <p:cNvSpPr/>
          <p:nvPr/>
        </p:nvSpPr>
        <p:spPr>
          <a:xfrm>
            <a:off x="-417600" y="195120"/>
            <a:ext cx="10110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- Theater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79"/>
          <p:cNvSpPr/>
          <p:nvPr/>
        </p:nvSpPr>
        <p:spPr>
          <a:xfrm>
            <a:off x="103320" y="1932120"/>
            <a:ext cx="1714320" cy="2492280"/>
          </a:xfrm>
          <a:custGeom>
            <a:avLst/>
            <a:gdLst>
              <a:gd name="textAreaLeft" fmla="*/ 59400 w 1714320"/>
              <a:gd name="textAreaRight" fmla="*/ 1654920 w 1714320"/>
              <a:gd name="textAreaTop" fmla="*/ 59400 h 2492280"/>
              <a:gd name="textAreaBottom" fmla="*/ 2432880 h 2492280"/>
            </a:gdLst>
            <a:ahLst/>
            <a:rect l="textAreaLeft" t="textAreaTop" r="textAreaRight" b="textAreaBottom"/>
            <a:pathLst>
              <a:path w="21600" h="31400">
                <a:moveTo>
                  <a:pt x="2565" y="0"/>
                </a:moveTo>
                <a:arcTo wR="2565" hR="2565" stAng="16200000" swAng="-5400000"/>
                <a:lnTo>
                  <a:pt x="0" y="28835"/>
                </a:lnTo>
                <a:arcTo wR="2565" hR="2565" stAng="10800000" swAng="-5400000"/>
                <a:lnTo>
                  <a:pt x="19035" y="31400"/>
                </a:lnTo>
                <a:arcTo wR="2565" hR="2565" stAng="5400000" swAng="-5400000"/>
                <a:lnTo>
                  <a:pt x="21600" y="2565"/>
                </a:lnTo>
                <a:arcTo wR="2565" hR="2565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3"/>
          <p:cNvSpPr/>
          <p:nvPr/>
        </p:nvSpPr>
        <p:spPr>
          <a:xfrm>
            <a:off x="1889280" y="2881440"/>
            <a:ext cx="1798560" cy="5475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5"/>
          <p:cNvSpPr/>
          <p:nvPr/>
        </p:nvSpPr>
        <p:spPr>
          <a:xfrm>
            <a:off x="1879560" y="2004840"/>
            <a:ext cx="1808280" cy="803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hanced TrackWolf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97"/>
          <p:cNvSpPr/>
          <p:nvPr/>
        </p:nvSpPr>
        <p:spPr>
          <a:xfrm>
            <a:off x="5649840" y="2771640"/>
            <a:ext cx="1679760" cy="2660760"/>
          </a:xfrm>
          <a:custGeom>
            <a:avLst/>
            <a:gdLst>
              <a:gd name="textAreaLeft" fmla="*/ 38160 w 1679760"/>
              <a:gd name="textAreaRight" fmla="*/ 1641600 w 1679760"/>
              <a:gd name="textAreaTop" fmla="*/ 38160 h 2660760"/>
              <a:gd name="textAreaBottom" fmla="*/ 2622600 h 2660760"/>
            </a:gdLst>
            <a:ahLst/>
            <a:rect l="textAreaLeft" t="textAreaTop" r="textAreaRight" b="textAreaBottom"/>
            <a:pathLst>
              <a:path w="21600" h="34212">
                <a:moveTo>
                  <a:pt x="1675" y="0"/>
                </a:moveTo>
                <a:arcTo wR="1675" hR="1675" stAng="16200000" swAng="-5400000"/>
                <a:lnTo>
                  <a:pt x="0" y="32537"/>
                </a:lnTo>
                <a:arcTo wR="1675" hR="1675" stAng="10800000" swAng="-5400000"/>
                <a:lnTo>
                  <a:pt x="19925" y="34212"/>
                </a:lnTo>
                <a:arcTo wR="1675" hR="1675" stAng="5400000" swAng="-5400000"/>
                <a:lnTo>
                  <a:pt x="21600" y="1675"/>
                </a:lnTo>
                <a:arcTo wR="1675" hR="1675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79"/>
          <p:cNvSpPr/>
          <p:nvPr/>
        </p:nvSpPr>
        <p:spPr>
          <a:xfrm>
            <a:off x="3860640" y="2771640"/>
            <a:ext cx="1752840" cy="1424160"/>
          </a:xfrm>
          <a:prstGeom prst="roundRect">
            <a:avLst>
              <a:gd name="adj" fmla="val 11042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0"/>
          <p:cNvSpPr/>
          <p:nvPr/>
        </p:nvSpPr>
        <p:spPr>
          <a:xfrm>
            <a:off x="4554360" y="1785960"/>
            <a:ext cx="1982880" cy="814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cility Manag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3"/>
          <p:cNvSpPr/>
          <p:nvPr/>
        </p:nvSpPr>
        <p:spPr>
          <a:xfrm>
            <a:off x="1874880" y="3503520"/>
            <a:ext cx="1771560" cy="1949400"/>
          </a:xfrm>
          <a:custGeom>
            <a:avLst/>
            <a:gdLst>
              <a:gd name="textAreaLeft" fmla="*/ 57240 w 1771560"/>
              <a:gd name="textAreaRight" fmla="*/ 1714320 w 1771560"/>
              <a:gd name="textAreaTop" fmla="*/ 57240 h 1949400"/>
              <a:gd name="textAreaBottom" fmla="*/ 1892160 h 1949400"/>
            </a:gdLst>
            <a:ahLst/>
            <a:rect l="textAreaLeft" t="textAreaTop" r="textAreaRight" b="textAreaBottom"/>
            <a:pathLst>
              <a:path w="21600" h="23768">
                <a:moveTo>
                  <a:pt x="2384" y="0"/>
                </a:moveTo>
                <a:arcTo wR="2384" hR="2384" stAng="16200000" swAng="-5400000"/>
                <a:lnTo>
                  <a:pt x="0" y="21384"/>
                </a:lnTo>
                <a:arcTo wR="2384" hR="2384" stAng="10800000" swAng="-5400000"/>
                <a:lnTo>
                  <a:pt x="19216" y="23768"/>
                </a:lnTo>
                <a:arcTo wR="2384" hR="2384" stAng="5400000" swAng="-5400000"/>
                <a:lnTo>
                  <a:pt x="21600" y="2384"/>
                </a:lnTo>
                <a:arcTo wR="2384" hR="2384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ion Contro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5703840" y="4653000"/>
            <a:ext cx="16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2071"/>
          <p:cNvSpPr/>
          <p:nvPr/>
        </p:nvSpPr>
        <p:spPr>
          <a:xfrm>
            <a:off x="7475400" y="1338120"/>
            <a:ext cx="1986120" cy="4381560"/>
          </a:xfrm>
          <a:custGeom>
            <a:avLst/>
            <a:gdLst>
              <a:gd name="textAreaLeft" fmla="*/ 96840 w 1986120"/>
              <a:gd name="textAreaRight" fmla="*/ 1889280 w 1986120"/>
              <a:gd name="textAreaTop" fmla="*/ 96840 h 4381560"/>
              <a:gd name="textAreaBottom" fmla="*/ 4284720 h 4381560"/>
            </a:gdLst>
            <a:ahLst/>
            <a:rect l="textAreaLeft" t="textAreaTop" r="textAreaRight" b="textAreaBottom"/>
            <a:pathLst>
              <a:path w="21600" h="47647">
                <a:moveTo>
                  <a:pt x="3600" y="0"/>
                </a:moveTo>
                <a:arcTo wR="3600" hR="3600" stAng="16200000" swAng="-5400000"/>
                <a:lnTo>
                  <a:pt x="0" y="44047"/>
                </a:lnTo>
                <a:arcTo wR="3600" hR="3600" stAng="10800000" swAng="-5400000"/>
                <a:lnTo>
                  <a:pt x="18000" y="47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9"/>
          <p:cNvSpPr/>
          <p:nvPr/>
        </p:nvSpPr>
        <p:spPr>
          <a:xfrm>
            <a:off x="7647120" y="3052800"/>
            <a:ext cx="16603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naconda, Bal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COM SCR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9"/>
          <p:cNvSpPr/>
          <p:nvPr/>
        </p:nvSpPr>
        <p:spPr>
          <a:xfrm>
            <a:off x="7704000" y="1509840"/>
            <a:ext cx="16606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COM SCR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ram AB, Bagram, A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9"/>
          <p:cNvSpPr/>
          <p:nvPr/>
        </p:nvSpPr>
        <p:spPr>
          <a:xfrm>
            <a:off x="7704000" y="2309760"/>
            <a:ext cx="16606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COM SCR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6"/>
          <p:cNvSpPr/>
          <p:nvPr/>
        </p:nvSpPr>
        <p:spPr>
          <a:xfrm>
            <a:off x="7647120" y="4024440"/>
            <a:ext cx="1658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FORGEN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9"/>
          <p:cNvSpPr/>
          <p:nvPr/>
        </p:nvSpPr>
        <p:spPr>
          <a:xfrm>
            <a:off x="7589880" y="3052800"/>
            <a:ext cx="1771560" cy="1600200"/>
          </a:xfrm>
          <a:prstGeom prst="roundRect">
            <a:avLst>
              <a:gd name="adj" fmla="val 8718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1"/>
          <p:cNvSpPr/>
          <p:nvPr/>
        </p:nvSpPr>
        <p:spPr>
          <a:xfrm>
            <a:off x="7589880" y="1428840"/>
            <a:ext cx="1771560" cy="722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2"/>
          <p:cNvSpPr/>
          <p:nvPr/>
        </p:nvSpPr>
        <p:spPr>
          <a:xfrm>
            <a:off x="7589880" y="2252520"/>
            <a:ext cx="1771560" cy="722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22"/>
          <p:cNvSpPr/>
          <p:nvPr/>
        </p:nvSpPr>
        <p:spPr>
          <a:xfrm>
            <a:off x="103320" y="3452760"/>
            <a:ext cx="1714320" cy="971640"/>
          </a:xfrm>
          <a:prstGeom prst="roundRect">
            <a:avLst>
              <a:gd name="adj" fmla="val 2189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23"/>
          <p:cNvSpPr/>
          <p:nvPr/>
        </p:nvSpPr>
        <p:spPr>
          <a:xfrm>
            <a:off x="7589880" y="4767120"/>
            <a:ext cx="1771560" cy="6858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01"/>
          <p:cNvSpPr/>
          <p:nvPr/>
        </p:nvSpPr>
        <p:spPr>
          <a:xfrm>
            <a:off x="3875040" y="4309920"/>
            <a:ext cx="171756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chmotoren EPP III Engine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25"/>
          <p:cNvSpPr/>
          <p:nvPr/>
        </p:nvSpPr>
        <p:spPr>
          <a:xfrm>
            <a:off x="103320" y="4538520"/>
            <a:ext cx="1714320" cy="912960"/>
          </a:xfrm>
          <a:prstGeom prst="roundRect">
            <a:avLst>
              <a:gd name="adj" fmla="val 2189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32"/>
          <p:cNvSpPr/>
          <p:nvPr/>
        </p:nvSpPr>
        <p:spPr>
          <a:xfrm>
            <a:off x="115920" y="880920"/>
            <a:ext cx="2365200" cy="4915080"/>
          </a:xfrm>
          <a:custGeom>
            <a:avLst/>
            <a:gdLst>
              <a:gd name="textAreaLeft" fmla="*/ 69840 w 2365200"/>
              <a:gd name="textAreaRight" fmla="*/ 2295360 w 2365200"/>
              <a:gd name="textAreaTop" fmla="*/ 69840 h 4915080"/>
              <a:gd name="textAreaBottom" fmla="*/ 4845240 h 4915080"/>
            </a:gdLst>
            <a:ahLst/>
            <a:rect l="textAreaLeft" t="textAreaTop" r="textAreaRight" b="textAreaBottom"/>
            <a:pathLst>
              <a:path w="21600" h="44883">
                <a:moveTo>
                  <a:pt x="2186" y="0"/>
                </a:moveTo>
                <a:arcTo wR="2186" hR="2186" stAng="16200000" swAng="-5400000"/>
                <a:lnTo>
                  <a:pt x="0" y="42697"/>
                </a:lnTo>
                <a:arcTo wR="2186" hR="2186" stAng="10800000" swAng="-5400000"/>
                <a:lnTo>
                  <a:pt x="19414" y="44883"/>
                </a:lnTo>
                <a:arcTo wR="2186" hR="2186" stAng="5400000" swAng="-5400000"/>
                <a:lnTo>
                  <a:pt x="21600" y="2186"/>
                </a:lnTo>
                <a:arcTo wR="2186" hR="2186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87"/>
          <p:cNvSpPr/>
          <p:nvPr/>
        </p:nvSpPr>
        <p:spPr>
          <a:xfrm>
            <a:off x="2538360" y="880920"/>
            <a:ext cx="6981840" cy="4915080"/>
          </a:xfrm>
          <a:prstGeom prst="roundRect">
            <a:avLst>
              <a:gd name="adj" fmla="val 10556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8"/>
          <p:cNvSpPr/>
          <p:nvPr/>
        </p:nvSpPr>
        <p:spPr>
          <a:xfrm>
            <a:off x="-423720" y="195120"/>
            <a:ext cx="10117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– Sustainment Operations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331920" y="1224000"/>
            <a:ext cx="180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PPING / RECEIV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274680" y="219564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ERTY MANAG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455400" y="2652840"/>
            <a:ext cx="124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NATORIAL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118800" y="3395520"/>
            <a:ext cx="199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TOR SHOP SUPPLY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4332240" y="880920"/>
            <a:ext cx="24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TOR SHOP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1"/>
          <p:cNvSpPr/>
          <p:nvPr/>
        </p:nvSpPr>
        <p:spPr>
          <a:xfrm>
            <a:off x="3532320" y="1109520"/>
            <a:ext cx="600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DE LINKS                                                                                                  MIDDLE EAST BUSINESS SOLUTIONS (MEB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12"/>
          <p:cNvSpPr/>
          <p:nvPr/>
        </p:nvSpPr>
        <p:spPr>
          <a:xfrm>
            <a:off x="173160" y="3395520"/>
            <a:ext cx="2251080" cy="101880"/>
          </a:xfrm>
          <a:prstGeom prst="roundRect">
            <a:avLst>
              <a:gd name="adj" fmla="val 9532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13"/>
          <p:cNvSpPr/>
          <p:nvPr/>
        </p:nvSpPr>
        <p:spPr>
          <a:xfrm>
            <a:off x="173160" y="2652840"/>
            <a:ext cx="2251080" cy="106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4"/>
          <p:cNvSpPr/>
          <p:nvPr/>
        </p:nvSpPr>
        <p:spPr>
          <a:xfrm>
            <a:off x="173160" y="2195640"/>
            <a:ext cx="2251080" cy="106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15"/>
          <p:cNvSpPr/>
          <p:nvPr/>
        </p:nvSpPr>
        <p:spPr>
          <a:xfrm>
            <a:off x="173160" y="1224000"/>
            <a:ext cx="2251080" cy="106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3478320" y="48096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UWAITI FOREIGN NATIO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17"/>
          <p:cNvSpPr/>
          <p:nvPr/>
        </p:nvSpPr>
        <p:spPr>
          <a:xfrm>
            <a:off x="2597040" y="1338120"/>
            <a:ext cx="4442040" cy="4400640"/>
          </a:xfrm>
          <a:prstGeom prst="roundRect">
            <a:avLst>
              <a:gd name="adj" fmla="val 692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7155000" y="1338120"/>
            <a:ext cx="2307960" cy="4400640"/>
          </a:xfrm>
          <a:custGeom>
            <a:avLst/>
            <a:gdLst>
              <a:gd name="textAreaLeft" fmla="*/ 91440 w 2307960"/>
              <a:gd name="textAreaRight" fmla="*/ 2216520 w 2307960"/>
              <a:gd name="textAreaTop" fmla="*/ 91440 h 4400640"/>
              <a:gd name="textAreaBottom" fmla="*/ 4309200 h 4400640"/>
            </a:gdLst>
            <a:ahLst/>
            <a:rect l="textAreaLeft" t="textAreaTop" r="textAreaRight" b="textAreaBottom"/>
            <a:pathLst>
              <a:path w="21600" h="41182">
                <a:moveTo>
                  <a:pt x="2924" y="0"/>
                </a:moveTo>
                <a:arcTo wR="2924" hR="2924" stAng="16200000" swAng="-5400000"/>
                <a:lnTo>
                  <a:pt x="0" y="38258"/>
                </a:lnTo>
                <a:arcTo wR="2924" hR="2924" stAng="10800000" swAng="-5400000"/>
                <a:lnTo>
                  <a:pt x="18676" y="41182"/>
                </a:lnTo>
                <a:arcTo wR="2924" hR="2924" stAng="5400000" swAng="-5400000"/>
                <a:lnTo>
                  <a:pt x="21600" y="2924"/>
                </a:lnTo>
                <a:arcTo wR="2924" hR="2924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231"/>
          <p:cNvSpPr/>
          <p:nvPr/>
        </p:nvSpPr>
        <p:spPr>
          <a:xfrm>
            <a:off x="3846600" y="731880"/>
            <a:ext cx="3747960" cy="4670280"/>
          </a:xfrm>
          <a:custGeom>
            <a:avLst/>
            <a:gdLst>
              <a:gd name="textAreaLeft" fmla="*/ 103680 w 3747960"/>
              <a:gd name="textAreaRight" fmla="*/ 3644280 w 3747960"/>
              <a:gd name="textAreaTop" fmla="*/ 103680 h 4670280"/>
              <a:gd name="textAreaBottom" fmla="*/ 4566600 h 4670280"/>
            </a:gdLst>
            <a:ahLst/>
            <a:rect l="textAreaLeft" t="textAreaTop" r="textAreaRight" b="textAreaBottom"/>
            <a:pathLst>
              <a:path w="21600" h="26915">
                <a:moveTo>
                  <a:pt x="2042" y="0"/>
                </a:moveTo>
                <a:arcTo wR="2042" hR="2042" stAng="16200000" swAng="-5400000"/>
                <a:lnTo>
                  <a:pt x="0" y="24873"/>
                </a:lnTo>
                <a:arcTo wR="2042" hR="2042" stAng="10800000" swAng="-5400000"/>
                <a:lnTo>
                  <a:pt x="19558" y="26915"/>
                </a:lnTo>
                <a:arcTo wR="2042" hR="2042" stAng="5400000" swAng="-5400000"/>
                <a:lnTo>
                  <a:pt x="21600" y="2042"/>
                </a:lnTo>
                <a:arcTo wR="2042" hR="2042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int Base Balad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33"/>
          <p:cNvSpPr/>
          <p:nvPr/>
        </p:nvSpPr>
        <p:spPr>
          <a:xfrm>
            <a:off x="38160" y="735120"/>
            <a:ext cx="3749760" cy="4667040"/>
          </a:xfrm>
          <a:custGeom>
            <a:avLst/>
            <a:gdLst>
              <a:gd name="textAreaLeft" fmla="*/ 106200 w 3749760"/>
              <a:gd name="textAreaRight" fmla="*/ 3643560 w 3749760"/>
              <a:gd name="textAreaTop" fmla="*/ 106200 h 4667040"/>
              <a:gd name="textAreaBottom" fmla="*/ 4560840 h 4667040"/>
            </a:gdLst>
            <a:ahLst/>
            <a:rect l="textAreaLeft" t="textAreaTop" r="textAreaRight" b="textAreaBottom"/>
            <a:pathLst>
              <a:path w="21600" h="26883">
                <a:moveTo>
                  <a:pt x="2089" y="0"/>
                </a:moveTo>
                <a:arcTo wR="2089" hR="2089" stAng="16200000" swAng="-5400000"/>
                <a:lnTo>
                  <a:pt x="0" y="24794"/>
                </a:lnTo>
                <a:arcTo wR="2089" hR="2089" stAng="10800000" swAng="-5400000"/>
                <a:lnTo>
                  <a:pt x="19511" y="26883"/>
                </a:lnTo>
                <a:arcTo wR="2089" hR="2089" stAng="5400000" swAng="-5400000"/>
                <a:lnTo>
                  <a:pt x="21600" y="2089"/>
                </a:lnTo>
                <a:arcTo wR="2089" hR="2089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87"/>
          <p:cNvSpPr/>
          <p:nvPr/>
        </p:nvSpPr>
        <p:spPr>
          <a:xfrm>
            <a:off x="7677000" y="728640"/>
            <a:ext cx="1920960" cy="2882880"/>
          </a:xfrm>
          <a:custGeom>
            <a:avLst/>
            <a:gdLst>
              <a:gd name="textAreaLeft" fmla="*/ 91440 w 1920960"/>
              <a:gd name="textAreaRight" fmla="*/ 1829520 w 1920960"/>
              <a:gd name="textAreaTop" fmla="*/ 91440 h 2882880"/>
              <a:gd name="textAreaBottom" fmla="*/ 2791440 h 2882880"/>
            </a:gdLst>
            <a:ahLst/>
            <a:rect l="textAreaLeft" t="textAreaTop" r="textAreaRight" b="textAreaBottom"/>
            <a:pathLst>
              <a:path w="21600" h="32414">
                <a:moveTo>
                  <a:pt x="3511" y="0"/>
                </a:moveTo>
                <a:arcTo wR="3511" hR="3511" stAng="16200000" swAng="-5400000"/>
                <a:lnTo>
                  <a:pt x="0" y="28903"/>
                </a:lnTo>
                <a:arcTo wR="3511" hR="3511" stAng="10800000" swAng="-5400000"/>
                <a:lnTo>
                  <a:pt x="18089" y="32414"/>
                </a:lnTo>
                <a:arcTo wR="3511" hR="3511" stAng="5400000" swAng="-5400000"/>
                <a:lnTo>
                  <a:pt x="21600" y="3511"/>
                </a:lnTo>
                <a:arcTo wR="3511" hR="3511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B Speicher, Tikrit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8"/>
          <p:cNvSpPr/>
          <p:nvPr/>
        </p:nvSpPr>
        <p:spPr>
          <a:xfrm>
            <a:off x="-423720" y="196920"/>
            <a:ext cx="10117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– Sustainment Operations - OI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87"/>
          <p:cNvSpPr/>
          <p:nvPr/>
        </p:nvSpPr>
        <p:spPr>
          <a:xfrm>
            <a:off x="7658280" y="3686040"/>
            <a:ext cx="1935000" cy="1716120"/>
          </a:xfrm>
          <a:prstGeom prst="roundRect">
            <a:avLst>
              <a:gd name="adj" fmla="val 19912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il Airbase, Tallil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232"/>
          <p:cNvSpPr/>
          <p:nvPr/>
        </p:nvSpPr>
        <p:spPr>
          <a:xfrm>
            <a:off x="868320" y="1589040"/>
            <a:ext cx="3747960" cy="4141800"/>
          </a:xfrm>
          <a:custGeom>
            <a:avLst/>
            <a:gdLst>
              <a:gd name="textAreaLeft" fmla="*/ 110880 w 3747960"/>
              <a:gd name="textAreaRight" fmla="*/ 3637080 w 3747960"/>
              <a:gd name="textAreaTop" fmla="*/ 110880 h 4141800"/>
              <a:gd name="textAreaBottom" fmla="*/ 4030920 h 4141800"/>
            </a:gdLst>
            <a:ahLst/>
            <a:rect l="textAreaLeft" t="textAreaTop" r="textAreaRight" b="textAreaBottom"/>
            <a:pathLst>
              <a:path w="21600" h="23870">
                <a:moveTo>
                  <a:pt x="2186" y="0"/>
                </a:moveTo>
                <a:arcTo wR="2186" hR="2186" stAng="16200000" swAng="-5400000"/>
                <a:lnTo>
                  <a:pt x="0" y="21684"/>
                </a:lnTo>
                <a:arcTo wR="2186" hR="2186" stAng="10800000" swAng="-5400000"/>
                <a:lnTo>
                  <a:pt x="19414" y="23870"/>
                </a:lnTo>
                <a:arcTo wR="2186" hR="2186" stAng="5400000" swAng="-5400000"/>
                <a:lnTo>
                  <a:pt x="21600" y="2186"/>
                </a:lnTo>
                <a:arcTo wR="2186" hR="2186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87"/>
          <p:cNvSpPr/>
          <p:nvPr/>
        </p:nvSpPr>
        <p:spPr>
          <a:xfrm>
            <a:off x="4851360" y="1581120"/>
            <a:ext cx="3749760" cy="4149720"/>
          </a:xfrm>
          <a:custGeom>
            <a:avLst/>
            <a:gdLst>
              <a:gd name="textAreaLeft" fmla="*/ 115920 w 3749760"/>
              <a:gd name="textAreaRight" fmla="*/ 3633840 w 3749760"/>
              <a:gd name="textAreaTop" fmla="*/ 115920 h 4149720"/>
              <a:gd name="textAreaBottom" fmla="*/ 4033800 h 4149720"/>
            </a:gdLst>
            <a:ahLst/>
            <a:rect l="textAreaLeft" t="textAreaTop" r="textAreaRight" b="textAreaBottom"/>
            <a:pathLst>
              <a:path w="21600" h="23904">
                <a:moveTo>
                  <a:pt x="2280" y="0"/>
                </a:moveTo>
                <a:arcTo wR="2280" hR="2280" stAng="16200000" swAng="-5400000"/>
                <a:lnTo>
                  <a:pt x="0" y="21624"/>
                </a:lnTo>
                <a:arcTo wR="2280" hR="2280" stAng="10800000" swAng="-5400000"/>
                <a:lnTo>
                  <a:pt x="19320" y="23904"/>
                </a:lnTo>
                <a:arcTo wR="2280" hR="2280" stAng="5400000" swAng="-5400000"/>
                <a:lnTo>
                  <a:pt x="21600" y="2280"/>
                </a:lnTo>
                <a:arcTo wR="2280" hR="228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dahar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8"/>
          <p:cNvSpPr/>
          <p:nvPr/>
        </p:nvSpPr>
        <p:spPr>
          <a:xfrm>
            <a:off x="-423720" y="196920"/>
            <a:ext cx="10117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– Sustainment Operations - OE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Drawing2"/>
          <p:cNvPicPr/>
          <p:nvPr/>
        </p:nvPicPr>
        <p:blipFill>
          <a:blip r:embed="rId3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-65160" y="7920"/>
            <a:ext cx="12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25 20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2303640" y="-1584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E1DEBF-C60A-49C1-A679-1A7507A019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Drawing2"/>
          <p:cNvPicPr/>
          <p:nvPr/>
        </p:nvPicPr>
        <p:blipFill>
          <a:blip r:embed="rId4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416" name="TextBox 8"/>
          <p:cNvSpPr/>
          <p:nvPr/>
        </p:nvSpPr>
        <p:spPr>
          <a:xfrm>
            <a:off x="2303640" y="-1584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9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44E5B3-447B-4DEC-B2F2-EDE3397D40B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540"/>
          <p:cNvGrpSpPr/>
          <p:nvPr/>
        </p:nvGrpSpPr>
        <p:grpSpPr>
          <a:xfrm>
            <a:off x="2558880" y="6580080"/>
            <a:ext cx="7105680" cy="960480"/>
            <a:chOff x="2558880" y="6580080"/>
            <a:chExt cx="7105680" cy="960480"/>
          </a:xfrm>
        </p:grpSpPr>
        <p:sp>
          <p:nvSpPr>
            <p:cNvPr id="419" name=""/>
            <p:cNvSpPr/>
            <p:nvPr/>
          </p:nvSpPr>
          <p:spPr>
            <a:xfrm>
              <a:off x="2558880" y="6580080"/>
              <a:ext cx="2148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7000" y="6580080"/>
              <a:ext cx="4744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D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81480" y="6580080"/>
              <a:ext cx="18097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Manager, Deputy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1200" y="6580080"/>
              <a:ext cx="5032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94480" y="6580080"/>
              <a:ext cx="21700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58880" y="6716880"/>
              <a:ext cx="2148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07000" y="6716880"/>
              <a:ext cx="4744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81480" y="6716880"/>
              <a:ext cx="18097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1200" y="6716880"/>
              <a:ext cx="503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94480" y="6716880"/>
              <a:ext cx="2170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Assistant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07000" y="6854760"/>
              <a:ext cx="474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81480" y="6854760"/>
              <a:ext cx="18097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91200" y="6854760"/>
              <a:ext cx="5032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4480" y="6854760"/>
              <a:ext cx="21700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58880" y="6991200"/>
              <a:ext cx="451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LT- SL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09960" y="6991200"/>
              <a:ext cx="1697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7000" y="6991200"/>
              <a:ext cx="474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1480" y="6991200"/>
              <a:ext cx="1809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91200" y="6991200"/>
              <a:ext cx="5032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94480" y="6991200"/>
              <a:ext cx="2170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58880" y="7129440"/>
              <a:ext cx="4510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- I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09960" y="7129440"/>
              <a:ext cx="1697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gistician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07000" y="7129440"/>
              <a:ext cx="474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7129440"/>
              <a:ext cx="18097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91200" y="7129440"/>
              <a:ext cx="5032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94480" y="7129440"/>
              <a:ext cx="21700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8880" y="7265880"/>
              <a:ext cx="4510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- 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09960" y="7265880"/>
              <a:ext cx="1697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gistician -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07000" y="7265880"/>
              <a:ext cx="4744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1480" y="7265880"/>
              <a:ext cx="18097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91200" y="7265880"/>
              <a:ext cx="5032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7265880"/>
              <a:ext cx="21700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58880" y="7402680"/>
              <a:ext cx="451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- 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09960" y="7402680"/>
              <a:ext cx="16970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gistician – Senior 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07000" y="7402680"/>
              <a:ext cx="4744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7402680"/>
              <a:ext cx="18097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1200" y="7402680"/>
              <a:ext cx="503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94480" y="7402680"/>
              <a:ext cx="2170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09960" y="69912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0700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148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120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9448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07000" y="6716880"/>
              <a:ext cx="49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07000" y="6854760"/>
              <a:ext cx="49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8880" y="699120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58880" y="712944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58880" y="726588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58880" y="740268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58880" y="69912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66456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07000" y="6580080"/>
              <a:ext cx="49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58880" y="754056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Box 11"/>
          <p:cNvSpPr/>
          <p:nvPr/>
        </p:nvSpPr>
        <p:spPr>
          <a:xfrm>
            <a:off x="0" y="0"/>
            <a:ext cx="15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9 APRIL 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_s2071"/>
          <p:cNvSpPr/>
          <p:nvPr/>
        </p:nvSpPr>
        <p:spPr>
          <a:xfrm>
            <a:off x="217440" y="938160"/>
            <a:ext cx="9229680" cy="5315040"/>
          </a:xfrm>
          <a:prstGeom prst="roundRect">
            <a:avLst>
              <a:gd name="adj" fmla="val 6532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9"/>
          <p:cNvSpPr/>
          <p:nvPr/>
        </p:nvSpPr>
        <p:spPr>
          <a:xfrm>
            <a:off x="-378000" y="285840"/>
            <a:ext cx="10071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 National Security Forces (ANSF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9"/>
          <p:cNvSpPr/>
          <p:nvPr/>
        </p:nvSpPr>
        <p:spPr>
          <a:xfrm>
            <a:off x="235080" y="652320"/>
            <a:ext cx="9148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bul, Afghanist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8"/>
          <p:cNvSpPr/>
          <p:nvPr/>
        </p:nvSpPr>
        <p:spPr>
          <a:xfrm>
            <a:off x="720720" y="2077920"/>
            <a:ext cx="2044800" cy="17654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ounded Rectangle 36"/>
          <p:cNvSpPr/>
          <p:nvPr/>
        </p:nvSpPr>
        <p:spPr>
          <a:xfrm>
            <a:off x="617400" y="5567400"/>
            <a:ext cx="2117880" cy="6206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36"/>
          <p:cNvSpPr/>
          <p:nvPr/>
        </p:nvSpPr>
        <p:spPr>
          <a:xfrm>
            <a:off x="617400" y="4762440"/>
            <a:ext cx="2124360" cy="7207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36"/>
          <p:cNvSpPr/>
          <p:nvPr/>
        </p:nvSpPr>
        <p:spPr>
          <a:xfrm>
            <a:off x="6051600" y="1203480"/>
            <a:ext cx="1963800" cy="5396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8"/>
          <p:cNvSpPr/>
          <p:nvPr/>
        </p:nvSpPr>
        <p:spPr>
          <a:xfrm>
            <a:off x="3591000" y="1165320"/>
            <a:ext cx="2205000" cy="5760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8"/>
          <p:cNvSpPr/>
          <p:nvPr/>
        </p:nvSpPr>
        <p:spPr>
          <a:xfrm>
            <a:off x="2911320" y="2077920"/>
            <a:ext cx="6193080" cy="4127760"/>
          </a:xfrm>
          <a:prstGeom prst="roundRect">
            <a:avLst>
              <a:gd name="adj" fmla="val 517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0" y="6424560"/>
            <a:ext cx="2050920" cy="10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lack font:  Recrui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Green font: Deployed On-Sit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d font: Departing or Vacan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Blue font:  New Hire / In process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cc00ff"/>
                </a:solidFill>
                <a:latin typeface="Arial"/>
              </a:rPr>
              <a:t>Violet font:  Internal Transf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22"/>
          <p:cNvSpPr/>
          <p:nvPr/>
        </p:nvSpPr>
        <p:spPr>
          <a:xfrm>
            <a:off x="114480" y="6424560"/>
            <a:ext cx="1828800" cy="236520"/>
          </a:xfrm>
          <a:prstGeom prst="roundRect">
            <a:avLst>
              <a:gd name="adj" fmla="val 35653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notes outgoing and incoming personnel                      in one approved slo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Drawing2"/>
          <p:cNvPicPr/>
          <p:nvPr/>
        </p:nvPicPr>
        <p:blipFill>
          <a:blip r:embed="rId3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"/>
          <p:cNvSpPr/>
          <p:nvPr/>
        </p:nvSpPr>
        <p:spPr>
          <a:xfrm>
            <a:off x="2303640" y="-1584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90271D-52AE-44C8-9F93-72519C1527B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3132000" y="995400"/>
            <a:ext cx="3600720" cy="6343560"/>
          </a:xfrm>
          <a:custGeom>
            <a:avLst/>
            <a:gdLst>
              <a:gd name="textAreaLeft" fmla="*/ 102600 w 3600720"/>
              <a:gd name="textAreaRight" fmla="*/ 3498120 w 3600720"/>
              <a:gd name="textAreaTop" fmla="*/ 102600 h 6343560"/>
              <a:gd name="textAreaBottom" fmla="*/ 6240960 h 6343560"/>
            </a:gdLst>
            <a:ahLst/>
            <a:rect l="textAreaLeft" t="textAreaTop" r="textAreaRight" b="textAreaBottom"/>
            <a:pathLst>
              <a:path w="21600" h="38052">
                <a:moveTo>
                  <a:pt x="2106" y="0"/>
                </a:moveTo>
                <a:arcTo wR="2106" hR="2106" stAng="16200000" swAng="-5400000"/>
                <a:lnTo>
                  <a:pt x="0" y="35946"/>
                </a:lnTo>
                <a:arcTo wR="2106" hR="2106" stAng="10800000" swAng="-5400000"/>
                <a:lnTo>
                  <a:pt x="19494" y="38052"/>
                </a:lnTo>
                <a:arcTo wR="2106" hR="2106" stAng="5400000" swAng="-5400000"/>
                <a:lnTo>
                  <a:pt x="21600" y="2106"/>
                </a:lnTo>
                <a:arcTo wR="2106" hR="2106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7162920" y="1041480"/>
            <a:ext cx="2050920" cy="439740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4397400"/>
              <a:gd name="textAreaBottom" fmla="*/ 4297320 h 4397400"/>
            </a:gdLst>
            <a:ahLst/>
            <a:rect l="textAreaLeft" t="textAreaTop" r="textAreaRight" b="textAreaBottom"/>
            <a:pathLst>
              <a:path w="21600" h="46308">
                <a:moveTo>
                  <a:pt x="3600" y="0"/>
                </a:moveTo>
                <a:arcTo wR="3600" hR="3600" stAng="16200000" swAng="-5400000"/>
                <a:lnTo>
                  <a:pt x="0" y="42708"/>
                </a:lnTo>
                <a:arcTo wR="3600" hR="3600" stAng="10800000" swAng="-5400000"/>
                <a:lnTo>
                  <a:pt x="18000" y="46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piSc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-431640" y="204840"/>
            <a:ext cx="10125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– OEM Subcontractor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_s2071"/>
          <p:cNvSpPr/>
          <p:nvPr/>
        </p:nvSpPr>
        <p:spPr>
          <a:xfrm>
            <a:off x="674640" y="1052640"/>
            <a:ext cx="1963800" cy="2974680"/>
          </a:xfrm>
          <a:custGeom>
            <a:avLst/>
            <a:gdLst>
              <a:gd name="textAreaLeft" fmla="*/ 95760 w 1963800"/>
              <a:gd name="textAreaRight" fmla="*/ 1868040 w 1963800"/>
              <a:gd name="textAreaTop" fmla="*/ 95760 h 2974680"/>
              <a:gd name="textAreaBottom" fmla="*/ 2878920 h 2974680"/>
            </a:gdLst>
            <a:ahLst/>
            <a:rect l="textAreaLeft" t="textAreaTop" r="textAreaRight" b="textAreaBottom"/>
            <a:pathLst>
              <a:path w="21600" h="32717">
                <a:moveTo>
                  <a:pt x="3600" y="0"/>
                </a:moveTo>
                <a:arcTo wR="3600" hR="3600" stAng="16200000" swAng="-5400000"/>
                <a:lnTo>
                  <a:pt x="0" y="29117"/>
                </a:lnTo>
                <a:arcTo wR="3600" hR="3600" stAng="10800000" swAng="-5400000"/>
                <a:lnTo>
                  <a:pt x="18000" y="32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28"/>
          <p:cNvSpPr/>
          <p:nvPr/>
        </p:nvSpPr>
        <p:spPr>
          <a:xfrm>
            <a:off x="7304040" y="1479600"/>
            <a:ext cx="1771560" cy="11714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int Base Bal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2"/>
          <p:cNvSpPr/>
          <p:nvPr/>
        </p:nvSpPr>
        <p:spPr>
          <a:xfrm>
            <a:off x="7304040" y="2766960"/>
            <a:ext cx="1789200" cy="754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 As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7"/>
          <p:cNvSpPr/>
          <p:nvPr/>
        </p:nvSpPr>
        <p:spPr>
          <a:xfrm>
            <a:off x="3270240" y="2954160"/>
            <a:ext cx="1639800" cy="1812960"/>
          </a:xfrm>
          <a:custGeom>
            <a:avLst/>
            <a:gdLst>
              <a:gd name="textAreaLeft" fmla="*/ 51120 w 1639800"/>
              <a:gd name="textAreaRight" fmla="*/ 1588680 w 1639800"/>
              <a:gd name="textAreaTop" fmla="*/ 51120 h 1812960"/>
              <a:gd name="textAreaBottom" fmla="*/ 1761840 h 1812960"/>
            </a:gdLst>
            <a:ahLst/>
            <a:rect l="textAreaLeft" t="textAreaTop" r="textAreaRight" b="textAreaBottom"/>
            <a:pathLst>
              <a:path w="21600" h="23880">
                <a:moveTo>
                  <a:pt x="2303" y="0"/>
                </a:moveTo>
                <a:arcTo wR="2303" hR="2303" stAng="16200000" swAng="-5400000"/>
                <a:lnTo>
                  <a:pt x="0" y="21577"/>
                </a:lnTo>
                <a:arcTo wR="2303" hR="2303" stAng="10800000" swAng="-5400000"/>
                <a:lnTo>
                  <a:pt x="19297" y="23880"/>
                </a:lnTo>
                <a:arcTo wR="2303" hR="2303" stAng="5400000" swAng="-5400000"/>
                <a:lnTo>
                  <a:pt x="21600" y="2303"/>
                </a:lnTo>
                <a:arcTo wR="2303" hR="2303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naconda, Balad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39"/>
          <p:cNvSpPr/>
          <p:nvPr/>
        </p:nvSpPr>
        <p:spPr>
          <a:xfrm>
            <a:off x="4997520" y="1803240"/>
            <a:ext cx="1595520" cy="2963880"/>
          </a:xfrm>
          <a:custGeom>
            <a:avLst/>
            <a:gdLst>
              <a:gd name="textAreaLeft" fmla="*/ 55440 w 1595520"/>
              <a:gd name="textAreaRight" fmla="*/ 1540080 w 1595520"/>
              <a:gd name="textAreaTop" fmla="*/ 55440 h 2963880"/>
              <a:gd name="textAreaBottom" fmla="*/ 2908440 h 2963880"/>
            </a:gdLst>
            <a:ahLst/>
            <a:rect l="textAreaLeft" t="textAreaTop" r="textAreaRight" b="textAreaBottom"/>
            <a:pathLst>
              <a:path w="21600" h="40121">
                <a:moveTo>
                  <a:pt x="2578" y="0"/>
                </a:moveTo>
                <a:arcTo wR="2578" hR="2578" stAng="16200000" swAng="-5400000"/>
                <a:lnTo>
                  <a:pt x="0" y="37543"/>
                </a:lnTo>
                <a:arcTo wR="2578" hR="2578" stAng="10800000" swAng="-5400000"/>
                <a:lnTo>
                  <a:pt x="19022" y="40121"/>
                </a:lnTo>
                <a:arcTo wR="2578" hR="2578" stAng="5400000" swAng="-5400000"/>
                <a:lnTo>
                  <a:pt x="21600" y="2578"/>
                </a:lnTo>
                <a:arcTo wR="2578" hR="2578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49"/>
          <p:cNvSpPr/>
          <p:nvPr/>
        </p:nvSpPr>
        <p:spPr>
          <a:xfrm>
            <a:off x="3270240" y="1803240"/>
            <a:ext cx="1638360" cy="1036800"/>
          </a:xfrm>
          <a:prstGeom prst="roundRect">
            <a:avLst>
              <a:gd name="adj" fmla="val 1294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49"/>
          <p:cNvSpPr/>
          <p:nvPr/>
        </p:nvSpPr>
        <p:spPr>
          <a:xfrm>
            <a:off x="846000" y="1338120"/>
            <a:ext cx="1603440" cy="1505160"/>
          </a:xfrm>
          <a:prstGeom prst="roundRect">
            <a:avLst>
              <a:gd name="adj" fmla="val 1085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ater Support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2"/>
          <p:cNvSpPr/>
          <p:nvPr/>
        </p:nvSpPr>
        <p:spPr>
          <a:xfrm>
            <a:off x="846000" y="2995560"/>
            <a:ext cx="1600200" cy="738360"/>
          </a:xfrm>
          <a:prstGeom prst="roundRect">
            <a:avLst>
              <a:gd name="adj" fmla="val 18222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2"/>
          <p:cNvSpPr/>
          <p:nvPr/>
        </p:nvSpPr>
        <p:spPr>
          <a:xfrm>
            <a:off x="3270240" y="4881600"/>
            <a:ext cx="3322800" cy="2343240"/>
          </a:xfrm>
          <a:prstGeom prst="roundRect">
            <a:avLst>
              <a:gd name="adj" fmla="val 17111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7"/>
          <p:cNvSpPr/>
          <p:nvPr/>
        </p:nvSpPr>
        <p:spPr>
          <a:xfrm>
            <a:off x="7304040" y="3624120"/>
            <a:ext cx="1789200" cy="941400"/>
          </a:xfrm>
          <a:prstGeom prst="roundRect">
            <a:avLst>
              <a:gd name="adj" fmla="val 11769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9"/>
          <p:cNvSpPr/>
          <p:nvPr/>
        </p:nvSpPr>
        <p:spPr>
          <a:xfrm>
            <a:off x="0" y="0"/>
            <a:ext cx="14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9 APRIL 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0"/>
          <p:cNvSpPr/>
          <p:nvPr/>
        </p:nvSpPr>
        <p:spPr>
          <a:xfrm>
            <a:off x="3303720" y="5110200"/>
            <a:ext cx="32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dahar                                                       Ba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1"/>
          <p:cNvSpPr/>
          <p:nvPr/>
        </p:nvSpPr>
        <p:spPr>
          <a:xfrm>
            <a:off x="5361120" y="6539040"/>
            <a:ext cx="51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bu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2"/>
          <p:cNvSpPr/>
          <p:nvPr/>
        </p:nvSpPr>
        <p:spPr>
          <a:xfrm>
            <a:off x="3965400" y="129240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ater Support, Arifjan, Kuwa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2"/>
          <p:cNvSpPr/>
          <p:nvPr/>
        </p:nvSpPr>
        <p:spPr>
          <a:xfrm>
            <a:off x="7329600" y="4635360"/>
            <a:ext cx="1788840" cy="693720"/>
          </a:xfrm>
          <a:prstGeom prst="roundRect">
            <a:avLst>
              <a:gd name="adj" fmla="val 960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5361120" y="4024440"/>
            <a:ext cx="81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sra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103320" y="6424560"/>
            <a:ext cx="2050920" cy="10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lack font:  Recrui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Green font: Deployed On-Sit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d font: Departing or Vacan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Blue font:  New Hire / In process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cc00ff"/>
                </a:solidFill>
                <a:latin typeface="Arial"/>
              </a:rPr>
              <a:t>Violet font:  Internal Transf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26"/>
          <p:cNvSpPr/>
          <p:nvPr/>
        </p:nvSpPr>
        <p:spPr>
          <a:xfrm>
            <a:off x="217440" y="6424560"/>
            <a:ext cx="1828800" cy="236520"/>
          </a:xfrm>
          <a:prstGeom prst="roundRect">
            <a:avLst>
              <a:gd name="adj" fmla="val 35653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notes outgoing and incoming personnel                      in one approved slo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le 27"/>
          <p:cNvSpPr/>
          <p:nvPr/>
        </p:nvSpPr>
        <p:spPr>
          <a:xfrm>
            <a:off x="3692520" y="1281240"/>
            <a:ext cx="2308320" cy="106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Nelson.Duncan@us.army.mil" TargetMode="External"/><Relationship Id="rId2" Type="http://schemas.openxmlformats.org/officeDocument/2006/relationships/hyperlink" Target="mailto:CECOMLCMCESSC@kuwait.swa.army.mil" TargetMode="External"/><Relationship Id="rId3" Type="http://schemas.openxmlformats.org/officeDocument/2006/relationships/hyperlink" Target="mailto:David.Estes@ManTech.com" TargetMode="External"/><Relationship Id="rId4" Type="http://schemas.openxmlformats.org/officeDocument/2006/relationships/hyperlink" Target="mailto:la.Steele@mmcs.army.mil" TargetMode="External"/><Relationship Id="rId5" Type="http://schemas.openxmlformats.org/officeDocument/2006/relationships/hyperlink" Target="mailto:la.Steele@mmcs.army.mil" TargetMode="External"/><Relationship Id="rId6" Type="http://schemas.openxmlformats.org/officeDocument/2006/relationships/hyperlink" Target="mailto:Paul.J.Gregory@" TargetMode="External"/><Relationship Id="rId7" Type="http://schemas.openxmlformats.org/officeDocument/2006/relationships/hyperlink" Target="mailto:CECOMLCMCESSC@kuwait.swa.army.mil" TargetMode="External"/><Relationship Id="rId8" Type="http://schemas.openxmlformats.org/officeDocument/2006/relationships/hyperlink" Target="mailto:CECOMLCMCESSC@kuwait.swa.army.mil" TargetMode="External"/><Relationship Id="rId9" Type="http://schemas.openxmlformats.org/officeDocument/2006/relationships/hyperlink" Target="mailto:Randy.caswell@us.army.mil" TargetMode="External"/><Relationship Id="rId10" Type="http://schemas.openxmlformats.org/officeDocument/2006/relationships/hyperlink" Target="mailto:illa.steele@mmcs.army.mil" TargetMode="External"/><Relationship Id="rId11" Type="http://schemas.openxmlformats.org/officeDocument/2006/relationships/hyperlink" Target="mailto:casimir.stryjewski@us.army.mil" TargetMode="External"/><Relationship Id="rId12" Type="http://schemas.openxmlformats.org/officeDocument/2006/relationships/hyperlink" Target="mailto:richard.n.bradshaw@mmcs.army.mil" TargetMode="External"/><Relationship Id="rId13" Type="http://schemas.openxmlformats.org/officeDocument/2006/relationships/hyperlink" Target="mailto:ickey@mmcs.army.mil" TargetMode="External"/><Relationship Id="rId14" Type="http://schemas.openxmlformats.org/officeDocument/2006/relationships/hyperlink" Target="mailto:Gene.Rains@us.army.mil" TargetMode="External"/><Relationship Id="rId15" Type="http://schemas.openxmlformats.org/officeDocument/2006/relationships/hyperlink" Target="mailto:richard.n.bradshaw@mmcs.army.mil" TargetMode="External"/><Relationship Id="rId16" Type="http://schemas.openxmlformats.org/officeDocument/2006/relationships/slideLayout" Target="../slideLayouts/slideLayout109.xml"/><Relationship Id="rId1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152360" y="949320"/>
            <a:ext cx="7388280" cy="34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C – Falls Church 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5099040" y="2646360"/>
            <a:ext cx="4017960" cy="35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lls Church, 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5121360" y="3154320"/>
          <a:ext cx="4092480" cy="857160"/>
        </p:xfrm>
        <a:graphic>
          <a:graphicData uri="http://schemas.openxmlformats.org/drawingml/2006/table">
            <a:tbl>
              <a:tblPr/>
              <a:tblGrid>
                <a:gridCol w="193680"/>
                <a:gridCol w="679320"/>
                <a:gridCol w="628560"/>
                <a:gridCol w="419400"/>
                <a:gridCol w="2171520"/>
              </a:tblGrid>
              <a:tr h="1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ed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SS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i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MS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-Tr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z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u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5" name="Text Box 51"/>
          <p:cNvSpPr/>
          <p:nvPr/>
        </p:nvSpPr>
        <p:spPr>
          <a:xfrm>
            <a:off x="511200" y="2631960"/>
            <a:ext cx="36781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atontown/Ft. Monmouth NJ (FSS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9600" y="3171960"/>
          <a:ext cx="4470480" cy="376200"/>
        </p:xfrm>
        <a:graphic>
          <a:graphicData uri="http://schemas.openxmlformats.org/drawingml/2006/table">
            <a:tbl>
              <a:tblPr/>
              <a:tblGrid>
                <a:gridCol w="133200"/>
                <a:gridCol w="500040"/>
                <a:gridCol w="781200"/>
                <a:gridCol w="484200"/>
                <a:gridCol w="2571840"/>
              </a:tblGrid>
              <a:tr h="12204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ucc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– ENLOGEX (FSS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i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– ENLOGEX (FSS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Journeyman – ENLOGEX (FSS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Text Box 80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1"/>
          <p:cNvSpPr/>
          <p:nvPr/>
        </p:nvSpPr>
        <p:spPr>
          <a:xfrm>
            <a:off x="4778280" y="4518000"/>
            <a:ext cx="369432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coming Personn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2"/>
          <p:cNvSpPr/>
          <p:nvPr/>
        </p:nvSpPr>
        <p:spPr>
          <a:xfrm>
            <a:off x="3386160" y="1530360"/>
            <a:ext cx="30337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Michael Barcla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HDCE) Program Manager – Executive Scientist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2"/>
          <p:cNvSpPr/>
          <p:nvPr/>
        </p:nvSpPr>
        <p:spPr>
          <a:xfrm>
            <a:off x="3349800" y="2114640"/>
            <a:ext cx="31399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Matthew Fergus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HDCE) Program Manager – Executive Scientist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335480" y="4865760"/>
          <a:ext cx="4856040" cy="353880"/>
        </p:xfrm>
        <a:graphic>
          <a:graphicData uri="http://schemas.openxmlformats.org/drawingml/2006/table">
            <a:tbl>
              <a:tblPr/>
              <a:tblGrid>
                <a:gridCol w="144360"/>
                <a:gridCol w="542880"/>
                <a:gridCol w="849600"/>
                <a:gridCol w="525240"/>
                <a:gridCol w="2793960"/>
              </a:tblGrid>
              <a:tr h="17784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ate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gistician –Senior Lead (Ft Hood- 04/26/10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nn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lectronics Tech –Senior Lead (Ft Hood- 04/12/10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Date Placeholder 11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3298-C118-4AD7-8772-3E146F9FB0C3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2004840" y="909720"/>
            <a:ext cx="5975640" cy="45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230040" y="2921040"/>
          <a:ext cx="4626000" cy="2147760"/>
        </p:xfrm>
        <a:graphic>
          <a:graphicData uri="http://schemas.openxmlformats.org/drawingml/2006/table">
            <a:tbl>
              <a:tblPr/>
              <a:tblGrid>
                <a:gridCol w="182880"/>
                <a:gridCol w="699840"/>
                <a:gridCol w="536760"/>
                <a:gridCol w="404640"/>
                <a:gridCol w="2801880"/>
              </a:tblGrid>
              <a:tr h="152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ga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ke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MS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k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ro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(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     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ptu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k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cliff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el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i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dge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as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a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qu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s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-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3" name="Text Box 100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01"/>
          <p:cNvSpPr/>
          <p:nvPr/>
        </p:nvSpPr>
        <p:spPr>
          <a:xfrm>
            <a:off x="1349280" y="2579760"/>
            <a:ext cx="253224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SET LOGISTICS/ Production Contro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02"/>
          <p:cNvSpPr/>
          <p:nvPr/>
        </p:nvSpPr>
        <p:spPr>
          <a:xfrm>
            <a:off x="3554280" y="2089080"/>
            <a:ext cx="3186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/Production Contr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03"/>
          <p:cNvSpPr/>
          <p:nvPr/>
        </p:nvSpPr>
        <p:spPr>
          <a:xfrm>
            <a:off x="5165640" y="2687760"/>
            <a:ext cx="367992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Hood – FSSD GTL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324400" y="3097080"/>
          <a:ext cx="3935520" cy="844560"/>
        </p:xfrm>
        <a:graphic>
          <a:graphicData uri="http://schemas.openxmlformats.org/drawingml/2006/table">
            <a:tbl>
              <a:tblPr/>
              <a:tblGrid>
                <a:gridCol w="154080"/>
                <a:gridCol w="471600"/>
                <a:gridCol w="425160"/>
                <a:gridCol w="443160"/>
                <a:gridCol w="2441520"/>
              </a:tblGrid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b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stician/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tk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enior Lead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147"/>
          <p:cNvSpPr/>
          <p:nvPr/>
        </p:nvSpPr>
        <p:spPr>
          <a:xfrm>
            <a:off x="3567240" y="1565280"/>
            <a:ext cx="3046320" cy="33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harles Vida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Y )Management Specialist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48"/>
          <p:cNvSpPr/>
          <p:nvPr/>
        </p:nvSpPr>
        <p:spPr>
          <a:xfrm>
            <a:off x="5086440" y="4479840"/>
            <a:ext cx="3736800" cy="41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Bliss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SUPPORT (Detachmen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4884840" y="5283360"/>
          <a:ext cx="4494240" cy="904680"/>
        </p:xfrm>
        <a:graphic>
          <a:graphicData uri="http://schemas.openxmlformats.org/drawingml/2006/table">
            <a:tbl>
              <a:tblPr/>
              <a:tblGrid>
                <a:gridCol w="231840"/>
                <a:gridCol w="587160"/>
                <a:gridCol w="596880"/>
                <a:gridCol w="443160"/>
                <a:gridCol w="2635200"/>
              </a:tblGrid>
              <a:tr h="1519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oks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g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j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o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Senior Lead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i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s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y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wronk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Technician  </a:t>
                      </a:r>
                      <a:r>
                        <a:rPr b="1" lang="en-US" sz="8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(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Date Placeholder 11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89FA-11EA-4E9C-8869-2FFCC6A68209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58"/>
          <p:cNvSpPr/>
          <p:nvPr/>
        </p:nvSpPr>
        <p:spPr>
          <a:xfrm>
            <a:off x="255960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d: 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69"/>
          <p:cNvSpPr/>
          <p:nvPr/>
        </p:nvSpPr>
        <p:spPr>
          <a:xfrm>
            <a:off x="4875120" y="2068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4567320" y="5049720"/>
          <a:ext cx="4732200" cy="1370160"/>
        </p:xfrm>
        <a:graphic>
          <a:graphicData uri="http://schemas.openxmlformats.org/drawingml/2006/table">
            <a:tbl>
              <a:tblPr/>
              <a:tblGrid>
                <a:gridCol w="279360"/>
                <a:gridCol w="825480"/>
                <a:gridCol w="744480"/>
                <a:gridCol w="496800"/>
                <a:gridCol w="2386080"/>
              </a:tblGrid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hi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          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-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gl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le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gl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ill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rd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187200" y="4307040"/>
          <a:ext cx="4149720" cy="1631880"/>
        </p:xfrm>
        <a:graphic>
          <a:graphicData uri="http://schemas.openxmlformats.org/drawingml/2006/table">
            <a:tbl>
              <a:tblPr/>
              <a:tblGrid>
                <a:gridCol w="252360"/>
                <a:gridCol w="811440"/>
                <a:gridCol w="449280"/>
                <a:gridCol w="409680"/>
                <a:gridCol w="2226960"/>
              </a:tblGrid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o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b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tr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ch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SC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n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a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g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Text Box 1068"/>
          <p:cNvSpPr/>
          <p:nvPr/>
        </p:nvSpPr>
        <p:spPr>
          <a:xfrm>
            <a:off x="3495600" y="1494000"/>
            <a:ext cx="2752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drew Howar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) Electronic Technician – Senior Lea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69"/>
          <p:cNvSpPr/>
          <p:nvPr/>
        </p:nvSpPr>
        <p:spPr>
          <a:xfrm>
            <a:off x="2327400" y="946080"/>
            <a:ext cx="503532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 Carson, C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071"/>
          <p:cNvSpPr/>
          <p:nvPr/>
        </p:nvSpPr>
        <p:spPr>
          <a:xfrm>
            <a:off x="692280" y="2050920"/>
            <a:ext cx="2881080" cy="31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15920" y="2608200"/>
          <a:ext cx="3875040" cy="426960"/>
        </p:xfrm>
        <a:graphic>
          <a:graphicData uri="http://schemas.openxmlformats.org/drawingml/2006/table">
            <a:tbl>
              <a:tblPr/>
              <a:tblGrid>
                <a:gridCol w="182520"/>
                <a:gridCol w="614520"/>
                <a:gridCol w="568080"/>
                <a:gridCol w="274680"/>
                <a:gridCol w="2235240"/>
              </a:tblGrid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s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o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0" name="Text Box 1175"/>
          <p:cNvSpPr/>
          <p:nvPr/>
        </p:nvSpPr>
        <p:spPr>
          <a:xfrm>
            <a:off x="5157720" y="2028960"/>
            <a:ext cx="3149640" cy="31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/ Production Contr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226"/>
          <p:cNvSpPr/>
          <p:nvPr/>
        </p:nvSpPr>
        <p:spPr>
          <a:xfrm>
            <a:off x="5164200" y="4479840"/>
            <a:ext cx="326556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 / IEW Sh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228"/>
          <p:cNvSpPr/>
          <p:nvPr/>
        </p:nvSpPr>
        <p:spPr>
          <a:xfrm>
            <a:off x="384120" y="3699000"/>
            <a:ext cx="326700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unications Sh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4375080" y="2589120"/>
          <a:ext cx="5048280" cy="1533600"/>
        </p:xfrm>
        <a:graphic>
          <a:graphicData uri="http://schemas.openxmlformats.org/drawingml/2006/table">
            <a:tbl>
              <a:tblPr/>
              <a:tblGrid>
                <a:gridCol w="298440"/>
                <a:gridCol w="881280"/>
                <a:gridCol w="792000"/>
                <a:gridCol w="533520"/>
                <a:gridCol w="25430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al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i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say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(Admin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anza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o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t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iser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ggier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GMS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 </a:t>
                      </a:r>
                      <a:r>
                        <a:rPr b="1" lang="en-US" sz="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Date Placeholder 13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B2EC-5E48-48F1-9EA7-295F4B9C965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3187800" y="1531800"/>
            <a:ext cx="33177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verett Whi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Y) Management Specialist - Sr.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565440" y="1060560"/>
            <a:ext cx="256248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Lewis, W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500040" y="2736720"/>
          <a:ext cx="5443560" cy="3468960"/>
        </p:xfrm>
        <a:graphic>
          <a:graphicData uri="http://schemas.openxmlformats.org/drawingml/2006/table">
            <a:tbl>
              <a:tblPr/>
              <a:tblGrid>
                <a:gridCol w="274680"/>
                <a:gridCol w="860400"/>
                <a:gridCol w="860400"/>
                <a:gridCol w="485640"/>
                <a:gridCol w="2962440"/>
              </a:tblGrid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w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rom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i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lemu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ess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 </a:t>
                      </a:r>
                      <a:r>
                        <a:rPr b="1" lang="en-US" sz="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o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jar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n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do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l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p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s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el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l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ssistan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8" name="Text Box 132"/>
          <p:cNvSpPr/>
          <p:nvPr/>
        </p:nvSpPr>
        <p:spPr>
          <a:xfrm>
            <a:off x="903240" y="2266920"/>
            <a:ext cx="25621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33"/>
          <p:cNvSpPr/>
          <p:nvPr/>
        </p:nvSpPr>
        <p:spPr>
          <a:xfrm>
            <a:off x="5846760" y="2236680"/>
            <a:ext cx="256068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waii Forward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5724360" y="2700360"/>
          <a:ext cx="3544920" cy="227160"/>
        </p:xfrm>
        <a:graphic>
          <a:graphicData uri="http://schemas.openxmlformats.org/drawingml/2006/table">
            <a:tbl>
              <a:tblPr/>
              <a:tblGrid>
                <a:gridCol w="192240"/>
                <a:gridCol w="500040"/>
                <a:gridCol w="542880"/>
                <a:gridCol w="287280"/>
                <a:gridCol w="2022480"/>
              </a:tblGrid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d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Text Box 152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53"/>
          <p:cNvSpPr/>
          <p:nvPr/>
        </p:nvSpPr>
        <p:spPr>
          <a:xfrm>
            <a:off x="5881680" y="3225960"/>
            <a:ext cx="25621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SC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5602320" y="3708360"/>
          <a:ext cx="3670200" cy="436680"/>
        </p:xfrm>
        <a:graphic>
          <a:graphicData uri="http://schemas.openxmlformats.org/drawingml/2006/table">
            <a:tbl>
              <a:tblPr/>
              <a:tblGrid>
                <a:gridCol w="276120"/>
                <a:gridCol w="571680"/>
                <a:gridCol w="380880"/>
                <a:gridCol w="355680"/>
                <a:gridCol w="2085840"/>
              </a:tblGrid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w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d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Date Placeholder 10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5D8-5BF3-4911-9C9A-DB1CFE40EF5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2960640" y="1541520"/>
            <a:ext cx="38005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vid Youn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E) Project Leader - TESA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2917800" y="915840"/>
            <a:ext cx="3857760" cy="37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403200" y="2095560"/>
            <a:ext cx="4087800" cy="255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Base Operations – Friedrichsfeld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773280" y="6683400"/>
            <a:ext cx="256032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enza, Ita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5730840" y="2089080"/>
            <a:ext cx="329904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sovo, Camp Bondste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324000" y="2422440"/>
          <a:ext cx="4751280" cy="3716280"/>
        </p:xfrm>
        <a:graphic>
          <a:graphicData uri="http://schemas.openxmlformats.org/drawingml/2006/table">
            <a:tbl>
              <a:tblPr/>
              <a:tblGrid>
                <a:gridCol w="166680"/>
                <a:gridCol w="720720"/>
                <a:gridCol w="633240"/>
                <a:gridCol w="309600"/>
                <a:gridCol w="38160"/>
                <a:gridCol w="2882880"/>
              </a:tblGrid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lstro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ineering Analy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tucc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gamen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ior C4I Systems Specialist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is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-Jureidin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ado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Specialist  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ch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 Operations Analyst C4I Systems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 Systems Analyst –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tr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(B)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ond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le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 Systems Analyst –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henec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t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 Systems Analyst –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Control Manager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w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Specialist B 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in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ll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ph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P Systems Analyst -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g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(B) –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 Operations Analyst C4I Systems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Senior/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elik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228600" y="7010280"/>
          <a:ext cx="4589640" cy="257400"/>
        </p:xfrm>
        <a:graphic>
          <a:graphicData uri="http://schemas.openxmlformats.org/drawingml/2006/table">
            <a:tbl>
              <a:tblPr/>
              <a:tblGrid>
                <a:gridCol w="181080"/>
                <a:gridCol w="682560"/>
                <a:gridCol w="684000"/>
                <a:gridCol w="260640"/>
                <a:gridCol w="2781360"/>
              </a:tblGrid>
              <a:tr h="13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nath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ior C4I Systems Speciali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nath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5248440" y="7072200"/>
          <a:ext cx="3895560" cy="198720"/>
        </p:xfrm>
        <a:graphic>
          <a:graphicData uri="http://schemas.openxmlformats.org/drawingml/2006/table">
            <a:tbl>
              <a:tblPr/>
              <a:tblGrid>
                <a:gridCol w="150480"/>
                <a:gridCol w="677880"/>
                <a:gridCol w="587520"/>
                <a:gridCol w="393840"/>
                <a:gridCol w="2085840"/>
              </a:tblGrid>
              <a:tr h="19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b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fr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ior C4I Systems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3" name="Text Box 216"/>
          <p:cNvSpPr/>
          <p:nvPr/>
        </p:nvSpPr>
        <p:spPr>
          <a:xfrm>
            <a:off x="5692680" y="6443640"/>
            <a:ext cx="327996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sa / Tirrenia, Ita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5243400" y="4660920"/>
          <a:ext cx="3986280" cy="257040"/>
        </p:xfrm>
        <a:graphic>
          <a:graphicData uri="http://schemas.openxmlformats.org/drawingml/2006/table">
            <a:tbl>
              <a:tblPr/>
              <a:tblGrid>
                <a:gridCol w="189000"/>
                <a:gridCol w="623880"/>
                <a:gridCol w="627120"/>
                <a:gridCol w="287280"/>
                <a:gridCol w="2259000"/>
              </a:tblGrid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zinsk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Senior/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r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P Systems Analyst -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Text Box 234"/>
          <p:cNvSpPr/>
          <p:nvPr/>
        </p:nvSpPr>
        <p:spPr>
          <a:xfrm>
            <a:off x="5632560" y="4229280"/>
            <a:ext cx="329724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kenheim,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35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5437080" y="2401920"/>
          <a:ext cx="4256280" cy="406440"/>
        </p:xfrm>
        <a:graphic>
          <a:graphicData uri="http://schemas.openxmlformats.org/drawingml/2006/table">
            <a:tbl>
              <a:tblPr/>
              <a:tblGrid>
                <a:gridCol w="198720"/>
                <a:gridCol w="682560"/>
                <a:gridCol w="682560"/>
                <a:gridCol w="288720"/>
                <a:gridCol w="240372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insk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8" name=""/>
          <p:cNvGraphicFramePr/>
          <p:nvPr/>
        </p:nvGraphicFramePr>
        <p:xfrm>
          <a:off x="5191200" y="5772240"/>
          <a:ext cx="3894120" cy="245880"/>
        </p:xfrm>
        <a:graphic>
          <a:graphicData uri="http://schemas.openxmlformats.org/drawingml/2006/table">
            <a:tbl>
              <a:tblPr/>
              <a:tblGrid>
                <a:gridCol w="150840"/>
                <a:gridCol w="630000"/>
                <a:gridCol w="468360"/>
                <a:gridCol w="327240"/>
                <a:gridCol w="2317680"/>
              </a:tblGrid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Text Box 283"/>
          <p:cNvSpPr/>
          <p:nvPr/>
        </p:nvSpPr>
        <p:spPr>
          <a:xfrm>
            <a:off x="5654520" y="5275440"/>
            <a:ext cx="3278520" cy="24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sbaden,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284"/>
          <p:cNvSpPr/>
          <p:nvPr/>
        </p:nvSpPr>
        <p:spPr>
          <a:xfrm>
            <a:off x="5622840" y="3260880"/>
            <a:ext cx="329724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wetzingen,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297400" y="3587760"/>
          <a:ext cx="4133880" cy="244440"/>
        </p:xfrm>
        <a:graphic>
          <a:graphicData uri="http://schemas.openxmlformats.org/drawingml/2006/table">
            <a:tbl>
              <a:tblPr/>
              <a:tblGrid>
                <a:gridCol w="160560"/>
                <a:gridCol w="581040"/>
                <a:gridCol w="663480"/>
                <a:gridCol w="271440"/>
                <a:gridCol w="2457360"/>
              </a:tblGrid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okonsk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lodymy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P Systems Analy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Date Placeholder 18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4AF1-FABD-4E78-853C-1FFBB19AD32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2421360" y="44136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"/>
          <p:cNvSpPr/>
          <p:nvPr/>
        </p:nvSpPr>
        <p:spPr>
          <a:xfrm>
            <a:off x="3508200" y="2017800"/>
            <a:ext cx="267660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lan Limb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J) Management Specialist - Journeym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"/>
          <p:cNvSpPr/>
          <p:nvPr/>
        </p:nvSpPr>
        <p:spPr>
          <a:xfrm>
            <a:off x="2241720" y="1252440"/>
            <a:ext cx="52084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-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717480" y="3220920"/>
            <a:ext cx="2687760" cy="25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ijongbu,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747720" y="4811760"/>
            <a:ext cx="2690640" cy="25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oul,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490680" y="3686040"/>
          <a:ext cx="4174920" cy="792360"/>
        </p:xfrm>
        <a:graphic>
          <a:graphicData uri="http://schemas.openxmlformats.org/drawingml/2006/table">
            <a:tbl>
              <a:tblPr/>
              <a:tblGrid>
                <a:gridCol w="258480"/>
                <a:gridCol w="549360"/>
                <a:gridCol w="546120"/>
                <a:gridCol w="365040"/>
                <a:gridCol w="2455920"/>
              </a:tblGrid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d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li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anagement Speciali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p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522360" y="5076720"/>
          <a:ext cx="3989160" cy="244440"/>
        </p:xfrm>
        <a:graphic>
          <a:graphicData uri="http://schemas.openxmlformats.org/drawingml/2006/table">
            <a:tbl>
              <a:tblPr/>
              <a:tblGrid>
                <a:gridCol w="228600"/>
                <a:gridCol w="574560"/>
                <a:gridCol w="693720"/>
                <a:gridCol w="442800"/>
                <a:gridCol w="204948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us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Text Box 49"/>
          <p:cNvSpPr/>
          <p:nvPr/>
        </p:nvSpPr>
        <p:spPr>
          <a:xfrm>
            <a:off x="5351400" y="3084480"/>
            <a:ext cx="2689200" cy="25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ongtaek,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4846680" y="3557520"/>
          <a:ext cx="5033880" cy="1243080"/>
        </p:xfrm>
        <a:graphic>
          <a:graphicData uri="http://schemas.openxmlformats.org/drawingml/2006/table">
            <a:tbl>
              <a:tblPr/>
              <a:tblGrid>
                <a:gridCol w="222120"/>
                <a:gridCol w="662040"/>
                <a:gridCol w="528840"/>
                <a:gridCol w="358560"/>
                <a:gridCol w="3262320"/>
              </a:tblGrid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kman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tschell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ou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hol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Lo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Date Placeholder 10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AD62-D452-4617-9DCC-9B4DB04A30E5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109"/>
          <p:cNvSpPr/>
          <p:nvPr/>
        </p:nvSpPr>
        <p:spPr>
          <a:xfrm>
            <a:off x="1195560" y="2260440"/>
            <a:ext cx="1444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ISHER, CAROL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BA-J]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8 MAY 06  (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10"/>
          <p:cNvSpPr/>
          <p:nvPr/>
        </p:nvSpPr>
        <p:spPr>
          <a:xfrm>
            <a:off x="1195560" y="2516040"/>
            <a:ext cx="1609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IMENEZ-SANTIAGO, KEILA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J]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SEP 0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20"/>
          <p:cNvSpPr/>
          <p:nvPr/>
        </p:nvSpPr>
        <p:spPr>
          <a:xfrm>
            <a:off x="2332080" y="4309920"/>
            <a:ext cx="1463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TRYJEWSKI, CASIMIR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 {S3A}                 IC: 15 DEC 07 ( 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33"/>
          <p:cNvSpPr/>
          <p:nvPr/>
        </p:nvSpPr>
        <p:spPr>
          <a:xfrm>
            <a:off x="469800" y="5186520"/>
            <a:ext cx="1467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CKNER, LARRY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 -SL] 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06 SEP 08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_s2135"/>
          <p:cNvSpPr/>
          <p:nvPr/>
        </p:nvSpPr>
        <p:spPr>
          <a:xfrm>
            <a:off x="3760920" y="3452760"/>
            <a:ext cx="185724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RTON, KELLY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13 FEB 05  (OEF THEATER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LOC:BAGRA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34"/>
          <p:cNvSpPr/>
          <p:nvPr/>
        </p:nvSpPr>
        <p:spPr>
          <a:xfrm>
            <a:off x="7475400" y="4309920"/>
            <a:ext cx="1428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SWELL, RANDY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{S3A}              IC: 30 OCT 08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_s2135"/>
          <p:cNvSpPr/>
          <p:nvPr/>
        </p:nvSpPr>
        <p:spPr>
          <a:xfrm>
            <a:off x="3757680" y="1082520"/>
            <a:ext cx="191304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 u="sng">
                <a:solidFill>
                  <a:srgbClr val="008000"/>
                </a:solidFill>
                <a:uFillTx/>
                <a:latin typeface="Arial"/>
              </a:rPr>
              <a:t>GREGORY, PAUL</a:t>
            </a: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 [PMD-SL] {S3A}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IC: 16 MAY 09 (THEATER MANAGER)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19"/>
          <p:cNvSpPr/>
          <p:nvPr/>
        </p:nvSpPr>
        <p:spPr>
          <a:xfrm>
            <a:off x="3751200" y="3137040"/>
            <a:ext cx="183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OHANSEN, ROBERT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[PMD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5 JUL 06 ( OIF THEATER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LOC: BAGHDA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20"/>
          <p:cNvSpPr/>
          <p:nvPr/>
        </p:nvSpPr>
        <p:spPr>
          <a:xfrm>
            <a:off x="469800" y="4309920"/>
            <a:ext cx="1463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AINS, GEN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0 MAR 06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49"/>
          <p:cNvSpPr/>
          <p:nvPr/>
        </p:nvSpPr>
        <p:spPr>
          <a:xfrm>
            <a:off x="1122480" y="1055520"/>
            <a:ext cx="1825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ACKSON, JAHYOUTH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{S3A}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05 DEC 08  (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49"/>
          <p:cNvSpPr/>
          <p:nvPr/>
        </p:nvSpPr>
        <p:spPr>
          <a:xfrm>
            <a:off x="1122480" y="127476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RIS, DONNA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A-I] 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1 NOV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06"/>
          <p:cNvSpPr/>
          <p:nvPr/>
        </p:nvSpPr>
        <p:spPr>
          <a:xfrm>
            <a:off x="1122480" y="1494000"/>
            <a:ext cx="1716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SS, DELPHINE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A-I]   {S3A}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03 APR 10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18"/>
          <p:cNvSpPr/>
          <p:nvPr/>
        </p:nvSpPr>
        <p:spPr>
          <a:xfrm>
            <a:off x="6489720" y="1201680"/>
            <a:ext cx="1511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ENNIS, JOHN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[PMD-SL] {S3A} (CSC)</a:t>
            </a: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 23 JAN 10  (OPS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24"/>
          <p:cNvSpPr/>
          <p:nvPr/>
        </p:nvSpPr>
        <p:spPr>
          <a:xfrm>
            <a:off x="5532480" y="4538520"/>
            <a:ext cx="1419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BENOIT, EDWARD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   [MS-SL]   {S3A}</a:t>
            </a:r>
            <a:br>
              <a:rPr sz="600"/>
            </a:b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ETA: MAY 10                     (35660BR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ounded Rectangle 21"/>
          <p:cNvSpPr/>
          <p:nvPr/>
        </p:nvSpPr>
        <p:spPr>
          <a:xfrm>
            <a:off x="5418000" y="4253040"/>
            <a:ext cx="1543320" cy="571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37"/>
          <p:cNvSpPr/>
          <p:nvPr/>
        </p:nvSpPr>
        <p:spPr>
          <a:xfrm>
            <a:off x="5532480" y="4309920"/>
            <a:ext cx="14288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ESTES, DAVID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J] {AR1}                                                  IC: 20 OCT 07  (SITE MANAGER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24"/>
          <p:cNvSpPr/>
          <p:nvPr/>
        </p:nvSpPr>
        <p:spPr>
          <a:xfrm>
            <a:off x="7475400" y="4538520"/>
            <a:ext cx="14194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FIELDS, JOHN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   [MS-SL]       {S3A}</a:t>
            </a:r>
            <a:br>
              <a:rPr sz="600"/>
            </a:b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ETA: MAY 10                  (35661BR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ounded Rectangle 24"/>
          <p:cNvSpPr/>
          <p:nvPr/>
        </p:nvSpPr>
        <p:spPr>
          <a:xfrm>
            <a:off x="7361280" y="4253040"/>
            <a:ext cx="1542960" cy="571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81"/>
          <p:cNvSpPr/>
          <p:nvPr/>
        </p:nvSpPr>
        <p:spPr>
          <a:xfrm>
            <a:off x="2332080" y="5167440"/>
            <a:ext cx="1527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MERON, WILLIAM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J]  {S3A}           IC: 01 OCT 08 (SITE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81"/>
          <p:cNvSpPr/>
          <p:nvPr/>
        </p:nvSpPr>
        <p:spPr>
          <a:xfrm>
            <a:off x="7475400" y="4938840"/>
            <a:ext cx="13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LEE, VALERIE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    [MS-SL]     {S3A}             IC: 27 MAR 10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_s2131"/>
          <p:cNvSpPr/>
          <p:nvPr/>
        </p:nvSpPr>
        <p:spPr>
          <a:xfrm>
            <a:off x="209520" y="2443320"/>
            <a:ext cx="1273320" cy="2016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KNIGHT, MARLO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7 SEP 0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_s2137"/>
          <p:cNvSpPr/>
          <p:nvPr/>
        </p:nvSpPr>
        <p:spPr>
          <a:xfrm>
            <a:off x="611280" y="2708280"/>
            <a:ext cx="1241280" cy="24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71"/>
          <p:cNvSpPr/>
          <p:nvPr/>
        </p:nvSpPr>
        <p:spPr>
          <a:xfrm>
            <a:off x="5759280" y="3503520"/>
            <a:ext cx="1273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PINO, TIMOTH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  {WR3}   IC: 14 MAR 05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72"/>
          <p:cNvSpPr/>
          <p:nvPr/>
        </p:nvSpPr>
        <p:spPr>
          <a:xfrm>
            <a:off x="217440" y="3909960"/>
            <a:ext cx="134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ART, DARREL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{R3E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 APR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73"/>
          <p:cNvSpPr/>
          <p:nvPr/>
        </p:nvSpPr>
        <p:spPr>
          <a:xfrm>
            <a:off x="217440" y="2195640"/>
            <a:ext cx="1606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RRERO, JOS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S-SL] {S3A}                       IC: 09 NOV 03 (LOGISTICS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75"/>
          <p:cNvSpPr/>
          <p:nvPr/>
        </p:nvSpPr>
        <p:spPr>
          <a:xfrm>
            <a:off x="209520" y="3648240"/>
            <a:ext cx="159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IMES, FRANKI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S-SL] {S3A}                           IC: 14 MAR 04   (TRANSPORTATION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89"/>
          <p:cNvSpPr/>
          <p:nvPr/>
        </p:nvSpPr>
        <p:spPr>
          <a:xfrm>
            <a:off x="5759280" y="3246480"/>
            <a:ext cx="1460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ENDER, DONNI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 {W3R}             IC: 02 MAY 05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93"/>
          <p:cNvSpPr/>
          <p:nvPr/>
        </p:nvSpPr>
        <p:spPr>
          <a:xfrm>
            <a:off x="1989000" y="3795840"/>
            <a:ext cx="1427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SSELLIEU, LYMAN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S-J] {S3A}                                 IC: 27 NOV  07 (PC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_s2137"/>
          <p:cNvSpPr/>
          <p:nvPr/>
        </p:nvSpPr>
        <p:spPr>
          <a:xfrm>
            <a:off x="209520" y="2662200"/>
            <a:ext cx="1432080" cy="19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LDWIN, DAVI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FEB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06"/>
          <p:cNvSpPr/>
          <p:nvPr/>
        </p:nvSpPr>
        <p:spPr>
          <a:xfrm>
            <a:off x="5761080" y="3738600"/>
            <a:ext cx="156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MOLINA, NICK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FST-I] { W3R}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 (35451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 MAR 10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43"/>
          <p:cNvSpPr/>
          <p:nvPr/>
        </p:nvSpPr>
        <p:spPr>
          <a:xfrm>
            <a:off x="4773600" y="2004840"/>
            <a:ext cx="1496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VEGA, EDWIN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D-SL] {W3R}                   IC: 12 OCT 04  (FACILITY  MANAGER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46"/>
          <p:cNvSpPr/>
          <p:nvPr/>
        </p:nvSpPr>
        <p:spPr>
          <a:xfrm>
            <a:off x="4773600" y="2260440"/>
            <a:ext cx="15397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HOMAS, KENNETH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SL] {W3R}            IC: 25 JUL 09 ( DEPUTY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87"/>
          <p:cNvSpPr/>
          <p:nvPr/>
        </p:nvSpPr>
        <p:spPr>
          <a:xfrm>
            <a:off x="1962000" y="3100320"/>
            <a:ext cx="1589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LLINS, KENNETH[    [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ELT-J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7 AUG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92"/>
          <p:cNvSpPr/>
          <p:nvPr/>
        </p:nvSpPr>
        <p:spPr>
          <a:xfrm>
            <a:off x="3933720" y="3027240"/>
            <a:ext cx="1606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" bIns="252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NDREWS, WANDA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[PMS-J] {W3R}                IC: 20 SEP 09   (LEAD LOGISTICIAN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76"/>
          <p:cNvSpPr/>
          <p:nvPr/>
        </p:nvSpPr>
        <p:spPr>
          <a:xfrm>
            <a:off x="209520" y="2881440"/>
            <a:ext cx="130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XON, PET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 (S3A)                          IC: 12 JUL 08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89"/>
          <p:cNvSpPr/>
          <p:nvPr/>
        </p:nvSpPr>
        <p:spPr>
          <a:xfrm>
            <a:off x="5759280" y="2954160"/>
            <a:ext cx="1625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ELCH, DAVID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J] {W3R}  (33226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3 NOV 03 (TCN MANAGER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91"/>
          <p:cNvSpPr/>
          <p:nvPr/>
        </p:nvSpPr>
        <p:spPr>
          <a:xfrm>
            <a:off x="5761080" y="4881600"/>
            <a:ext cx="156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LVARADO, ARTURO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FST-SL] {W3R}      IC: 23 JAN 10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92"/>
          <p:cNvSpPr/>
          <p:nvPr/>
        </p:nvSpPr>
        <p:spPr>
          <a:xfrm>
            <a:off x="3933720" y="3282840"/>
            <a:ext cx="1606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" bIns="252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RINKERHOFF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W3R}               IC:  26 OCT 09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33"/>
          <p:cNvSpPr/>
          <p:nvPr/>
        </p:nvSpPr>
        <p:spPr>
          <a:xfrm>
            <a:off x="209520" y="3429000"/>
            <a:ext cx="142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78"/>
          <p:cNvSpPr/>
          <p:nvPr/>
        </p:nvSpPr>
        <p:spPr>
          <a:xfrm>
            <a:off x="1962000" y="2260440"/>
            <a:ext cx="1789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DOWELL, CHARLE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BM5}             IC: 23 JAN 10                        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33869BR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311"/>
          <p:cNvSpPr/>
          <p:nvPr/>
        </p:nvSpPr>
        <p:spPr>
          <a:xfrm>
            <a:off x="1989000" y="402444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CHTOLD, BRENDA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S-SL] 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5FEB 10            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_s2135"/>
          <p:cNvSpPr/>
          <p:nvPr/>
        </p:nvSpPr>
        <p:spPr>
          <a:xfrm>
            <a:off x="7704000" y="4195800"/>
            <a:ext cx="1679760" cy="257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INSETTE, ALEX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MS-SL]  {S3A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DEC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91"/>
          <p:cNvSpPr/>
          <p:nvPr/>
        </p:nvSpPr>
        <p:spPr>
          <a:xfrm>
            <a:off x="7704000" y="259560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AUX, WILLIAM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D-SL]   {S3A}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C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DEC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18"/>
          <p:cNvSpPr/>
          <p:nvPr/>
        </p:nvSpPr>
        <p:spPr>
          <a:xfrm>
            <a:off x="7704000" y="351000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RADSHAW, RICHAR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SL] {S3A} (CSC)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6 MAR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06"/>
          <p:cNvSpPr/>
          <p:nvPr/>
        </p:nvSpPr>
        <p:spPr>
          <a:xfrm>
            <a:off x="5770440" y="3967200"/>
            <a:ext cx="1570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BASKARAN, AJUKUMAR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FST-]  {W3R}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 24 APR 10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   [ITH]          (36466BR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61"/>
          <p:cNvSpPr/>
          <p:nvPr/>
        </p:nvSpPr>
        <p:spPr>
          <a:xfrm>
            <a:off x="7761240" y="5110200"/>
            <a:ext cx="1354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OULE, JEFFRE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A-J] {S3A}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JUL 08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BAGDAD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18"/>
          <p:cNvSpPr/>
          <p:nvPr/>
        </p:nvSpPr>
        <p:spPr>
          <a:xfrm>
            <a:off x="7704000" y="1795320"/>
            <a:ext cx="1511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IRK, ANDR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SL] {S3A} (CSC)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FEB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06"/>
          <p:cNvSpPr/>
          <p:nvPr/>
        </p:nvSpPr>
        <p:spPr>
          <a:xfrm>
            <a:off x="1989000" y="4253040"/>
            <a:ext cx="165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HUDLIN, GEORGE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[MS -J] {S3A}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ETA:  MAY 10              (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6007BR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47"/>
          <p:cNvSpPr/>
          <p:nvPr/>
        </p:nvSpPr>
        <p:spPr>
          <a:xfrm>
            <a:off x="7818480" y="476712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ECOM ESSC MGR Asst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Victory, Baghdad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06"/>
          <p:cNvSpPr/>
          <p:nvPr/>
        </p:nvSpPr>
        <p:spPr>
          <a:xfrm>
            <a:off x="3932280" y="4538520"/>
            <a:ext cx="156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{W3R}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 MAY 10     (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CSC Sub-Contract)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93"/>
          <p:cNvSpPr/>
          <p:nvPr/>
        </p:nvSpPr>
        <p:spPr>
          <a:xfrm>
            <a:off x="217440" y="4767120"/>
            <a:ext cx="1600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PORNTHEP, MEENGERN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[ET –SL] {S3A} ETA: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TBD      (Authorized slot)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 (35970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06"/>
          <p:cNvSpPr/>
          <p:nvPr/>
        </p:nvSpPr>
        <p:spPr>
          <a:xfrm>
            <a:off x="3932280" y="3567240"/>
            <a:ext cx="165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[PMS -J]     {W3R}       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(36340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TBD (Replacement for Eugene Armstrong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ounded Rectangle 48"/>
          <p:cNvSpPr/>
          <p:nvPr/>
        </p:nvSpPr>
        <p:spPr>
          <a:xfrm>
            <a:off x="7589880" y="3052800"/>
            <a:ext cx="1771560" cy="799920"/>
          </a:xfrm>
          <a:prstGeom prst="roundRect">
            <a:avLst>
              <a:gd name="adj" fmla="val 1782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ounded Rectangle 49"/>
          <p:cNvSpPr/>
          <p:nvPr/>
        </p:nvSpPr>
        <p:spPr>
          <a:xfrm>
            <a:off x="7589880" y="3909960"/>
            <a:ext cx="1771560" cy="743040"/>
          </a:xfrm>
          <a:prstGeom prst="roundRect">
            <a:avLst>
              <a:gd name="adj" fmla="val 1782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171"/>
          <p:cNvSpPr/>
          <p:nvPr/>
        </p:nvSpPr>
        <p:spPr>
          <a:xfrm>
            <a:off x="2654280" y="1452600"/>
            <a:ext cx="1600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BBAS ALI, LITON MIAH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[SM]   {WR3}      HD: 27 SEP 09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71"/>
          <p:cNvSpPr/>
          <p:nvPr/>
        </p:nvSpPr>
        <p:spPr>
          <a:xfrm>
            <a:off x="2654280" y="16812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LLAH DITA, MOHAMMAD KHALID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P-S]   {WR3}      HD: 3 SEP 05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71"/>
          <p:cNvSpPr/>
          <p:nvPr/>
        </p:nvSpPr>
        <p:spPr>
          <a:xfrm>
            <a:off x="2654280" y="1909800"/>
            <a:ext cx="2057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LLAH DITA GHULAM, MUSTHAFA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SM]   {WR3}           HD: 1 SEP 07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71"/>
          <p:cNvSpPr/>
          <p:nvPr/>
        </p:nvSpPr>
        <p:spPr>
          <a:xfrm>
            <a:off x="2654280" y="2138400"/>
            <a:ext cx="1600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KHTIAR, HABIB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SM]   {WR3}                                   HD: 18 AUG 07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71"/>
          <p:cNvSpPr/>
          <p:nvPr/>
        </p:nvSpPr>
        <p:spPr>
          <a:xfrm>
            <a:off x="2654280" y="23670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HIRACKAL, JOSEPH  FRANCI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SM]   {WR3}         HD: 4 OCT 07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71"/>
          <p:cNvSpPr/>
          <p:nvPr/>
        </p:nvSpPr>
        <p:spPr>
          <a:xfrm>
            <a:off x="2654280" y="25956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AMONDARN, PILLAI, MADHU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SM]   {WR3}           HD: 16 MAY 06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71"/>
          <p:cNvSpPr/>
          <p:nvPr/>
        </p:nvSpPr>
        <p:spPr>
          <a:xfrm>
            <a:off x="2654280" y="28242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ETTONIL JOHN, SHIBU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[SM]   {WR3}                            2 SEP 09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71"/>
          <p:cNvSpPr/>
          <p:nvPr/>
        </p:nvSpPr>
        <p:spPr>
          <a:xfrm>
            <a:off x="2654280" y="30528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AHAN KHAN, AFZAL AHMAD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MM]     {WR3}                         HD: 23 APR 06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71"/>
          <p:cNvSpPr/>
          <p:nvPr/>
        </p:nvSpPr>
        <p:spPr>
          <a:xfrm>
            <a:off x="2654280" y="32814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ALEEKKALTHARA, AJIKUMAR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M]   {WR3}                         HD: 9 DEC 08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71"/>
          <p:cNvSpPr/>
          <p:nvPr/>
        </p:nvSpPr>
        <p:spPr>
          <a:xfrm>
            <a:off x="2654280" y="35100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ALPESH RANA, RAMESH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M]   {WR3}                         HD: 1 SEP 07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71"/>
          <p:cNvSpPr/>
          <p:nvPr/>
        </p:nvSpPr>
        <p:spPr>
          <a:xfrm>
            <a:off x="2654280" y="37386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UMAR, SUNIL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M]   (ELECTRICIAN)   {WR3}                         HD: 14 JUN 08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71"/>
          <p:cNvSpPr/>
          <p:nvPr/>
        </p:nvSpPr>
        <p:spPr>
          <a:xfrm>
            <a:off x="2654280" y="39672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OCHERY, SHANMUGAN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M]   {WR3}                         HD: 18 DEC 09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71"/>
          <p:cNvSpPr/>
          <p:nvPr/>
        </p:nvSpPr>
        <p:spPr>
          <a:xfrm>
            <a:off x="2654280" y="41958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UNNUMAL, RAJENDRAN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M]   {WR3}                         HD: 13 OCT 09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71"/>
          <p:cNvSpPr/>
          <p:nvPr/>
        </p:nvSpPr>
        <p:spPr>
          <a:xfrm>
            <a:off x="2654280" y="442440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LLYA, MANJUNATH KRISHNA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MM]   {WR3}                         HD: 3 SEP 05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71"/>
          <p:cNvSpPr/>
          <p:nvPr/>
        </p:nvSpPr>
        <p:spPr>
          <a:xfrm>
            <a:off x="2654280" y="4653000"/>
            <a:ext cx="2286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NSHA MOHAMMAD, BOTA MOHAMMAD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M]  WR3}                         HD: 3 NOV 08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71"/>
          <p:cNvSpPr/>
          <p:nvPr/>
        </p:nvSpPr>
        <p:spPr>
          <a:xfrm>
            <a:off x="2654280" y="4881600"/>
            <a:ext cx="2286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QSOOD, BANGASH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MM]   (ELECTRICIAN)  {WR3}                                         HD: 23 APR 09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71"/>
          <p:cNvSpPr/>
          <p:nvPr/>
        </p:nvSpPr>
        <p:spPr>
          <a:xfrm>
            <a:off x="2654280" y="5110200"/>
            <a:ext cx="2286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OHAMMAD AKRAM, MOHAMMAD IDRIS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M] {WR3}                                         HD: 17 JUN 08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71"/>
          <p:cNvSpPr/>
          <p:nvPr/>
        </p:nvSpPr>
        <p:spPr>
          <a:xfrm>
            <a:off x="4789440" y="1452600"/>
            <a:ext cx="2286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OHAMMAD ARSHAD, MOHAMMAD ASHRAF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PP-S]  {WR3}                                         HD: 3 SEP 05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71"/>
          <p:cNvSpPr/>
          <p:nvPr/>
        </p:nvSpPr>
        <p:spPr>
          <a:xfrm>
            <a:off x="4789440" y="1738440"/>
            <a:ext cx="1787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OHAMMAD DIN, ABDUL GAFFA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[SM]   {WR3}       HD: 15 SEP 08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71"/>
          <p:cNvSpPr/>
          <p:nvPr/>
        </p:nvSpPr>
        <p:spPr>
          <a:xfrm>
            <a:off x="4789440" y="19670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OHAMMAD NAZIR, MOHAMMAD IMR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SM]   {WR3}      HD: 19 FEB 07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71"/>
          <p:cNvSpPr/>
          <p:nvPr/>
        </p:nvSpPr>
        <p:spPr>
          <a:xfrm>
            <a:off x="4789440" y="21956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UBARAK ALI, MUNIR AHMA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SM]   {WR3}                            HD: 23 JAN 07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71"/>
          <p:cNvSpPr/>
          <p:nvPr/>
        </p:nvSpPr>
        <p:spPr>
          <a:xfrm>
            <a:off x="4789440" y="24242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NADUKANDY, ASHOK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SM]   {WR3}                                          HD: 2 NOV 04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71"/>
          <p:cNvSpPr/>
          <p:nvPr/>
        </p:nvSpPr>
        <p:spPr>
          <a:xfrm>
            <a:off x="4789440" y="26528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NAIR MUKUNDAN, MANOJ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MM]   {WR3}                                          HD: 2 AUG 08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71"/>
          <p:cNvSpPr/>
          <p:nvPr/>
        </p:nvSpPr>
        <p:spPr>
          <a:xfrm>
            <a:off x="4789440" y="28814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NAMBRATH, SANTOSH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SM]   {WR3}                                              HD: 15 JAN 05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71"/>
          <p:cNvSpPr/>
          <p:nvPr/>
        </p:nvSpPr>
        <p:spPr>
          <a:xfrm>
            <a:off x="4789440" y="31100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LACKAL BAVA, ABU BAKER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TRA]   {WR3}                                          HD: 3 MAY 08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71"/>
          <p:cNvSpPr/>
          <p:nvPr/>
        </p:nvSpPr>
        <p:spPr>
          <a:xfrm>
            <a:off x="4789440" y="33386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URUSHOTHAMAN, SUBASH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15 JAN 09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71"/>
          <p:cNvSpPr/>
          <p:nvPr/>
        </p:nvSpPr>
        <p:spPr>
          <a:xfrm>
            <a:off x="4789440" y="35672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RFIRAZ AHMAD, MOHAMMAD BASHIR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M]   {WR3}                                          HD: 1 JAN 06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71"/>
          <p:cNvSpPr/>
          <p:nvPr/>
        </p:nvSpPr>
        <p:spPr>
          <a:xfrm>
            <a:off x="4789440" y="37958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VARI ,  JAYUMAR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M]   {WR3}                                          HD: 27 APR 07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71"/>
          <p:cNvSpPr/>
          <p:nvPr/>
        </p:nvSpPr>
        <p:spPr>
          <a:xfrm>
            <a:off x="4789440" y="40244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ELVARAJ, SHANTHA KUMAR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3 NOV 08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71"/>
          <p:cNvSpPr/>
          <p:nvPr/>
        </p:nvSpPr>
        <p:spPr>
          <a:xfrm>
            <a:off x="4789440" y="448164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OSE, THOMA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   HD: 6 MAR 07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71"/>
          <p:cNvSpPr/>
          <p:nvPr/>
        </p:nvSpPr>
        <p:spPr>
          <a:xfrm>
            <a:off x="4789440" y="4253040"/>
            <a:ext cx="2228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HAH MIAN, AJMAL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 HD: 11 MAR 07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71"/>
          <p:cNvSpPr/>
          <p:nvPr/>
        </p:nvSpPr>
        <p:spPr>
          <a:xfrm>
            <a:off x="4789440" y="471024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UL HAQ, IZHAR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M]   {WR3}                                          HD: 23 APR 06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71"/>
          <p:cNvSpPr/>
          <p:nvPr/>
        </p:nvSpPr>
        <p:spPr>
          <a:xfrm>
            <a:off x="4789440" y="4938840"/>
            <a:ext cx="1943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ULLAH, ATTA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 {WR3}                                              HD: 31 MAY 08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71"/>
          <p:cNvSpPr/>
          <p:nvPr/>
        </p:nvSpPr>
        <p:spPr>
          <a:xfrm>
            <a:off x="345960" y="145260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IROZ KATHOK, AMA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SRS]   { S3A}                       HD: 1 JAN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71"/>
          <p:cNvSpPr/>
          <p:nvPr/>
        </p:nvSpPr>
        <p:spPr>
          <a:xfrm>
            <a:off x="7270920" y="1395360"/>
            <a:ext cx="177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DARAKHSHAN, WAZIR ZADA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M]   {WR3}                                          HD: 4 DEC 05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71"/>
          <p:cNvSpPr/>
          <p:nvPr/>
        </p:nvSpPr>
        <p:spPr>
          <a:xfrm>
            <a:off x="7270920" y="1623960"/>
            <a:ext cx="1942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HOOL BAKSH, ASJJAD MEHMOOD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HD: 4 NOV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71"/>
          <p:cNvSpPr/>
          <p:nvPr/>
        </p:nvSpPr>
        <p:spPr>
          <a:xfrm>
            <a:off x="7270920" y="1852560"/>
            <a:ext cx="177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SHA SAHAB, AYUB PASHA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14 DEC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71"/>
          <p:cNvSpPr/>
          <p:nvPr/>
        </p:nvSpPr>
        <p:spPr>
          <a:xfrm>
            <a:off x="7270920" y="2081160"/>
            <a:ext cx="1771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SHIR AHMAD, NASIR ALI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3 MAR 07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71"/>
          <p:cNvSpPr/>
          <p:nvPr/>
        </p:nvSpPr>
        <p:spPr>
          <a:xfrm>
            <a:off x="7270920" y="2309760"/>
            <a:ext cx="1942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HOWDHARY NAWAB, IJAZ AHMAD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15 SEP 08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71"/>
          <p:cNvSpPr/>
          <p:nvPr/>
        </p:nvSpPr>
        <p:spPr>
          <a:xfrm>
            <a:off x="7270920" y="2538360"/>
            <a:ext cx="1942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ERUMADATTIL, MARTIN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8 SEP 08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71"/>
          <p:cNvSpPr/>
          <p:nvPr/>
        </p:nvSpPr>
        <p:spPr>
          <a:xfrm>
            <a:off x="7270920" y="2766960"/>
            <a:ext cx="1942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HANI KHAN, MAHMOOD KHAN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M]   {WR3}                                          HD: 1 JAN 06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71"/>
          <p:cNvSpPr/>
          <p:nvPr/>
        </p:nvSpPr>
        <p:spPr>
          <a:xfrm>
            <a:off x="7269120" y="29955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NZOOR HUSSAIN, RAJAB HUSSAIN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3 MAR 07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71"/>
          <p:cNvSpPr/>
          <p:nvPr/>
        </p:nvSpPr>
        <p:spPr>
          <a:xfrm>
            <a:off x="7269120" y="32241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OHAMMAD TUFAIL, KHALID PARVAIZ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16 NOV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71"/>
          <p:cNvSpPr/>
          <p:nvPr/>
        </p:nvSpPr>
        <p:spPr>
          <a:xfrm>
            <a:off x="7269120" y="34527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NAMJOSHI, ANKIT PRADEEP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7 JUL 09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71"/>
          <p:cNvSpPr/>
          <p:nvPr/>
        </p:nvSpPr>
        <p:spPr>
          <a:xfrm>
            <a:off x="7269120" y="36813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NADI ALI, YASEEN ALI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2 DEC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71"/>
          <p:cNvSpPr/>
          <p:nvPr/>
        </p:nvSpPr>
        <p:spPr>
          <a:xfrm>
            <a:off x="7269120" y="39099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THAN KHAN, YUNUS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4 AUG 09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71"/>
          <p:cNvSpPr/>
          <p:nvPr/>
        </p:nvSpPr>
        <p:spPr>
          <a:xfrm>
            <a:off x="7269120" y="43671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HAHID, MOHAMMAD, RAJIF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4 DEC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71"/>
          <p:cNvSpPr/>
          <p:nvPr/>
        </p:nvSpPr>
        <p:spPr>
          <a:xfrm>
            <a:off x="7269120" y="45957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RINIDAD REYES, JUNE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1 AUG 09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71"/>
          <p:cNvSpPr/>
          <p:nvPr/>
        </p:nvSpPr>
        <p:spPr>
          <a:xfrm>
            <a:off x="7327800" y="48243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USMANGANI, A. RAHMAN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M]   {WR3}                                          HD: 1 DEC 05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71"/>
          <p:cNvSpPr/>
          <p:nvPr/>
        </p:nvSpPr>
        <p:spPr>
          <a:xfrm>
            <a:off x="7269120" y="50529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USMAN ALI, MOHD. KHALID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14 JUN 09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71"/>
          <p:cNvSpPr/>
          <p:nvPr/>
        </p:nvSpPr>
        <p:spPr>
          <a:xfrm>
            <a:off x="7269120" y="52815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YOUSUF, HUSSAIN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3 DEC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71"/>
          <p:cNvSpPr/>
          <p:nvPr/>
        </p:nvSpPr>
        <p:spPr>
          <a:xfrm>
            <a:off x="345960" y="168120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IN, ALTAF ABDUL WAHAB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E]   { S3A}                       HD: 1 FEB 07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71"/>
          <p:cNvSpPr/>
          <p:nvPr/>
        </p:nvSpPr>
        <p:spPr>
          <a:xfrm>
            <a:off x="345960" y="190980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HAIKH,  ARIF MOHAMMED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RS]   { S3A}                       HD: 1 JAN 08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71"/>
          <p:cNvSpPr/>
          <p:nvPr/>
        </p:nvSpPr>
        <p:spPr>
          <a:xfrm>
            <a:off x="345960" y="236700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IZAKKEKKARA, JAYACHANDR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E]   { CTN}                       HD: 1 NOV 07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71"/>
          <p:cNvSpPr/>
          <p:nvPr/>
        </p:nvSpPr>
        <p:spPr>
          <a:xfrm>
            <a:off x="345960" y="288144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PARI, SHAJAH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[CL]   { S3A}                            HD: 1 JUN 06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71"/>
          <p:cNvSpPr/>
          <p:nvPr/>
        </p:nvSpPr>
        <p:spPr>
          <a:xfrm>
            <a:off x="345960" y="311004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BDUL JABBAR, MOHSIN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CS]   { S3A}                       HD: 1 JUN 06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71"/>
          <p:cNvSpPr/>
          <p:nvPr/>
        </p:nvSpPr>
        <p:spPr>
          <a:xfrm>
            <a:off x="345960" y="40813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LVANIYA, SALIM SAFI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T]   { W3R}                       HD: 23 JAN 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71"/>
          <p:cNvSpPr/>
          <p:nvPr/>
        </p:nvSpPr>
        <p:spPr>
          <a:xfrm>
            <a:off x="345960" y="43099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QAZEE, YAHYA AHMED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T]   { W3R}                       HD: 17 SEP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71"/>
          <p:cNvSpPr/>
          <p:nvPr/>
        </p:nvSpPr>
        <p:spPr>
          <a:xfrm>
            <a:off x="345960" y="45385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OPIWALA, SAJJID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C]   { W3R}                            IHD: 9 SEP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71"/>
          <p:cNvSpPr/>
          <p:nvPr/>
        </p:nvSpPr>
        <p:spPr>
          <a:xfrm>
            <a:off x="345960" y="47671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YUSUF BHAI, MOHAMMED YUNUS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T]  { W3R}                                                HD: 20 SEP 05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71"/>
          <p:cNvSpPr/>
          <p:nvPr/>
        </p:nvSpPr>
        <p:spPr>
          <a:xfrm>
            <a:off x="345960" y="49957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HAUNAGARWALA, SHABBIR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T]   { W3R}                       HD: 2 JUN 06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71"/>
          <p:cNvSpPr/>
          <p:nvPr/>
        </p:nvSpPr>
        <p:spPr>
          <a:xfrm>
            <a:off x="345960" y="52243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NIKAR, KAILA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C]   { W3R}                              HD: 1 JAN 05 05    (TRADE LINK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71"/>
          <p:cNvSpPr/>
          <p:nvPr/>
        </p:nvSpPr>
        <p:spPr>
          <a:xfrm>
            <a:off x="345960" y="54529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.  BARICUATRO,  SHERYL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T]   { W3R}                       HD: 1 NOV 08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71"/>
          <p:cNvSpPr/>
          <p:nvPr/>
        </p:nvSpPr>
        <p:spPr>
          <a:xfrm>
            <a:off x="345960" y="3852720"/>
            <a:ext cx="21034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AYANTILAL RANA, SHAILESH KUMAR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ST]  { W3R}                       HD: 1 AUG 09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71"/>
          <p:cNvSpPr/>
          <p:nvPr/>
        </p:nvSpPr>
        <p:spPr>
          <a:xfrm>
            <a:off x="345960" y="3624120"/>
            <a:ext cx="1886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ELIAS MANJERYIL, ELDO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T]   { W3R}                       HD: 14 JUL 09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71"/>
          <p:cNvSpPr/>
          <p:nvPr/>
        </p:nvSpPr>
        <p:spPr>
          <a:xfrm>
            <a:off x="7269120" y="41385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YYED NAZIM, NIZAMUDDIN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M]   {WR3}                                          HD: 1 JAN 08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71"/>
          <p:cNvSpPr/>
          <p:nvPr/>
        </p:nvSpPr>
        <p:spPr>
          <a:xfrm>
            <a:off x="7269120" y="5510160"/>
            <a:ext cx="2114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SUKHMAL BASWAS 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[MM]   {WR3}                                             HD: TBD    (MEBS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73"/>
          <p:cNvSpPr/>
          <p:nvPr/>
        </p:nvSpPr>
        <p:spPr>
          <a:xfrm>
            <a:off x="5423040" y="5910120"/>
            <a:ext cx="202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M: MASTER MECHANI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M: SENIOR MECHANI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PS: POWER PRODUCTION SENIO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T: SUPPLY TECHNICIA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RA: TOOLROOM  ATTENDAN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C: PRODUCTION CONTRO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: MATERIAL EXPEDITO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S: SHIPPING &amp;  RECEIVING SPECIALIS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S: CLEANING SPECIALIS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292"/>
          <p:cNvSpPr/>
          <p:nvPr/>
        </p:nvSpPr>
        <p:spPr>
          <a:xfrm>
            <a:off x="7875720" y="1452600"/>
            <a:ext cx="1380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NAOIS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S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4 JUN 07 (LEAD LOGISTICIAN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93"/>
          <p:cNvSpPr/>
          <p:nvPr/>
        </p:nvSpPr>
        <p:spPr>
          <a:xfrm>
            <a:off x="7875720" y="2508120"/>
            <a:ext cx="114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ZUL, GERAL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 OCT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296"/>
          <p:cNvSpPr/>
          <p:nvPr/>
        </p:nvSpPr>
        <p:spPr>
          <a:xfrm>
            <a:off x="7767720" y="2808360"/>
            <a:ext cx="1716120" cy="695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22"/>
          <p:cNvSpPr/>
          <p:nvPr/>
        </p:nvSpPr>
        <p:spPr>
          <a:xfrm>
            <a:off x="7875720" y="2276640"/>
            <a:ext cx="1380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VAZQUEZ, CARLO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SL] {R3E}           IC: 15 JUL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29"/>
          <p:cNvSpPr/>
          <p:nvPr/>
        </p:nvSpPr>
        <p:spPr>
          <a:xfrm>
            <a:off x="7840800" y="3027240"/>
            <a:ext cx="1595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NCHEZ, ARTURO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OCT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284"/>
          <p:cNvSpPr/>
          <p:nvPr/>
        </p:nvSpPr>
        <p:spPr>
          <a:xfrm>
            <a:off x="7767720" y="1238400"/>
            <a:ext cx="1716120" cy="749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284"/>
          <p:cNvSpPr/>
          <p:nvPr/>
        </p:nvSpPr>
        <p:spPr>
          <a:xfrm>
            <a:off x="7767720" y="2077920"/>
            <a:ext cx="1716120" cy="6573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54"/>
          <p:cNvSpPr/>
          <p:nvPr/>
        </p:nvSpPr>
        <p:spPr>
          <a:xfrm>
            <a:off x="246240" y="4270320"/>
            <a:ext cx="1280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ARZA, ESTEB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2 APR 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55"/>
          <p:cNvSpPr/>
          <p:nvPr/>
        </p:nvSpPr>
        <p:spPr>
          <a:xfrm>
            <a:off x="250920" y="3117960"/>
            <a:ext cx="1380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OSWELL, EDUARDO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BE7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1 JUL 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58"/>
          <p:cNvSpPr/>
          <p:nvPr/>
        </p:nvSpPr>
        <p:spPr>
          <a:xfrm>
            <a:off x="2035080" y="1494000"/>
            <a:ext cx="13971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IVINGSTON, CRAIG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 {DT2}          IC: 7 FEB 08 (TS/SCI)  (TECH LEA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64"/>
          <p:cNvSpPr/>
          <p:nvPr/>
        </p:nvSpPr>
        <p:spPr>
          <a:xfrm>
            <a:off x="246240" y="1494000"/>
            <a:ext cx="1558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SSENBURG, PET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SL] {S3A}    IC: 28 JULY 09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5"/>
          <p:cNvSpPr/>
          <p:nvPr/>
        </p:nvSpPr>
        <p:spPr>
          <a:xfrm>
            <a:off x="2035080" y="1749600"/>
            <a:ext cx="16750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RATHER, BRUC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 {DT2}                             IC:  04 JULY 09  (TS/SCI)  (Rotational / Bragg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278"/>
          <p:cNvSpPr/>
          <p:nvPr/>
        </p:nvSpPr>
        <p:spPr>
          <a:xfrm>
            <a:off x="1962000" y="2881440"/>
            <a:ext cx="1730520" cy="857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por Tracer / 101W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24"/>
          <p:cNvSpPr/>
          <p:nvPr/>
        </p:nvSpPr>
        <p:spPr>
          <a:xfrm>
            <a:off x="246240" y="1749600"/>
            <a:ext cx="1579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TTON, CASE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L-I] {S3A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OCT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326"/>
          <p:cNvSpPr/>
          <p:nvPr/>
        </p:nvSpPr>
        <p:spPr>
          <a:xfrm>
            <a:off x="136440" y="2881440"/>
            <a:ext cx="1716120" cy="841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-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284"/>
          <p:cNvSpPr/>
          <p:nvPr/>
        </p:nvSpPr>
        <p:spPr>
          <a:xfrm>
            <a:off x="136440" y="1238400"/>
            <a:ext cx="1716120" cy="1569960"/>
          </a:xfrm>
          <a:prstGeom prst="roundRect">
            <a:avLst>
              <a:gd name="adj" fmla="val 973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284"/>
          <p:cNvSpPr/>
          <p:nvPr/>
        </p:nvSpPr>
        <p:spPr>
          <a:xfrm>
            <a:off x="1962000" y="1238400"/>
            <a:ext cx="1741680" cy="1569960"/>
          </a:xfrm>
          <a:prstGeom prst="roundRect">
            <a:avLst>
              <a:gd name="adj" fmla="val 919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296"/>
          <p:cNvSpPr/>
          <p:nvPr/>
        </p:nvSpPr>
        <p:spPr>
          <a:xfrm>
            <a:off x="136440" y="3795840"/>
            <a:ext cx="1716120" cy="839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04"/>
          <p:cNvSpPr/>
          <p:nvPr/>
        </p:nvSpPr>
        <p:spPr>
          <a:xfrm>
            <a:off x="5869080" y="2625840"/>
            <a:ext cx="125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OLIVAREZ, DWIGH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3 JUL 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305"/>
          <p:cNvSpPr/>
          <p:nvPr/>
        </p:nvSpPr>
        <p:spPr>
          <a:xfrm>
            <a:off x="5869080" y="1494000"/>
            <a:ext cx="1439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ACOB, CHARL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S3A}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6 OCT 07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312"/>
          <p:cNvSpPr/>
          <p:nvPr/>
        </p:nvSpPr>
        <p:spPr>
          <a:xfrm>
            <a:off x="5869080" y="2004840"/>
            <a:ext cx="1377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OUSE,LUCA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{R3E}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8 AUG  07   (VT / IT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13"/>
          <p:cNvSpPr/>
          <p:nvPr/>
        </p:nvSpPr>
        <p:spPr>
          <a:xfrm>
            <a:off x="4038480" y="3824280"/>
            <a:ext cx="1589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CHROEDER, ROBER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R3E}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5 MAR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14"/>
          <p:cNvSpPr/>
          <p:nvPr/>
        </p:nvSpPr>
        <p:spPr>
          <a:xfrm>
            <a:off x="4038480" y="3281400"/>
            <a:ext cx="122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MARK, CHARLES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[PMS-J] {S3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DEP: 05 APR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318"/>
          <p:cNvSpPr/>
          <p:nvPr/>
        </p:nvSpPr>
        <p:spPr>
          <a:xfrm>
            <a:off x="3922560" y="2824200"/>
            <a:ext cx="1731960" cy="7430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Find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320"/>
          <p:cNvSpPr/>
          <p:nvPr/>
        </p:nvSpPr>
        <p:spPr>
          <a:xfrm>
            <a:off x="3933720" y="3624120"/>
            <a:ext cx="1752840" cy="685800"/>
          </a:xfrm>
          <a:prstGeom prst="roundRect">
            <a:avLst>
              <a:gd name="adj" fmla="val 14245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1W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284"/>
          <p:cNvSpPr/>
          <p:nvPr/>
        </p:nvSpPr>
        <p:spPr>
          <a:xfrm>
            <a:off x="3933720" y="1238400"/>
            <a:ext cx="1712880" cy="1471320"/>
          </a:xfrm>
          <a:prstGeom prst="roundRect">
            <a:avLst>
              <a:gd name="adj" fmla="val 10745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334"/>
          <p:cNvSpPr/>
          <p:nvPr/>
        </p:nvSpPr>
        <p:spPr>
          <a:xfrm>
            <a:off x="1962000" y="3852720"/>
            <a:ext cx="1730520" cy="8067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O 9001 / Q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29"/>
          <p:cNvSpPr/>
          <p:nvPr/>
        </p:nvSpPr>
        <p:spPr>
          <a:xfrm>
            <a:off x="7840800" y="3246480"/>
            <a:ext cx="1595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RNELL, THOMA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{AR1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JUNE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291"/>
          <p:cNvSpPr/>
          <p:nvPr/>
        </p:nvSpPr>
        <p:spPr>
          <a:xfrm>
            <a:off x="246240" y="4014720"/>
            <a:ext cx="152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RANT, ORA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AR1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 : 21 JUN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252"/>
          <p:cNvSpPr/>
          <p:nvPr/>
        </p:nvSpPr>
        <p:spPr>
          <a:xfrm>
            <a:off x="2035080" y="2004840"/>
            <a:ext cx="1354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EED, JUSTI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T-I] {DT2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8 JUNE 09   (TS/SCI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280"/>
          <p:cNvSpPr/>
          <p:nvPr/>
        </p:nvSpPr>
        <p:spPr>
          <a:xfrm>
            <a:off x="7878600" y="1730520"/>
            <a:ext cx="164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OUSER, ELLIO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S-SL] {AR1}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JUL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306"/>
          <p:cNvSpPr/>
          <p:nvPr/>
        </p:nvSpPr>
        <p:spPr>
          <a:xfrm>
            <a:off x="4046400" y="1509840"/>
            <a:ext cx="1363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LEMAN, JAM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SL] {S3A}                  IC: 27 JUN 09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306"/>
          <p:cNvSpPr/>
          <p:nvPr/>
        </p:nvSpPr>
        <p:spPr>
          <a:xfrm>
            <a:off x="4046400" y="1738440"/>
            <a:ext cx="1570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ENA, MARTINA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S3A}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5 APR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78"/>
          <p:cNvSpPr/>
          <p:nvPr/>
        </p:nvSpPr>
        <p:spPr>
          <a:xfrm>
            <a:off x="5759280" y="1238400"/>
            <a:ext cx="171612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278"/>
          <p:cNvSpPr/>
          <p:nvPr/>
        </p:nvSpPr>
        <p:spPr>
          <a:xfrm>
            <a:off x="5759280" y="1822320"/>
            <a:ext cx="171612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por Trac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278"/>
          <p:cNvSpPr/>
          <p:nvPr/>
        </p:nvSpPr>
        <p:spPr>
          <a:xfrm>
            <a:off x="5759280" y="2406600"/>
            <a:ext cx="1716120" cy="5842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27"/>
          <p:cNvSpPr/>
          <p:nvPr/>
        </p:nvSpPr>
        <p:spPr>
          <a:xfrm>
            <a:off x="4046400" y="1967040"/>
            <a:ext cx="15336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SCOTT, JAMES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  [PMS-J]   {S3A}                            ETA: 24 APR 2010       (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5384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76"/>
          <p:cNvSpPr/>
          <p:nvPr/>
        </p:nvSpPr>
        <p:spPr>
          <a:xfrm>
            <a:off x="246240" y="2004840"/>
            <a:ext cx="1423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LLARD, DERE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SC-I] {S3A}                 IC: 04 OCT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11"/>
          <p:cNvSpPr/>
          <p:nvPr/>
        </p:nvSpPr>
        <p:spPr>
          <a:xfrm>
            <a:off x="2019240" y="3110040"/>
            <a:ext cx="1656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WILLIAMS, CALEB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[FST-J]  {R3E}              DEP: 15 MAY 10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02"/>
          <p:cNvSpPr/>
          <p:nvPr/>
        </p:nvSpPr>
        <p:spPr>
          <a:xfrm>
            <a:off x="246240" y="3392640"/>
            <a:ext cx="15699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LLEJAS, GONZALO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FST-J]  {BE7}         IC:  01 APR 2010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02"/>
          <p:cNvSpPr/>
          <p:nvPr/>
        </p:nvSpPr>
        <p:spPr>
          <a:xfrm>
            <a:off x="5869080" y="3355920"/>
            <a:ext cx="1643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ODGES, STEVE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FST-J]   {BE7}               IC:11 MAR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11"/>
          <p:cNvSpPr/>
          <p:nvPr/>
        </p:nvSpPr>
        <p:spPr>
          <a:xfrm>
            <a:off x="2035080" y="2260440"/>
            <a:ext cx="160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LBRECHT, ROBERT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ELT-J]  {X2L}           IC: 30 JAN 10     (Rotational / Bragg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326"/>
          <p:cNvSpPr/>
          <p:nvPr/>
        </p:nvSpPr>
        <p:spPr>
          <a:xfrm>
            <a:off x="5759280" y="3100320"/>
            <a:ext cx="1752840" cy="5842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-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296"/>
          <p:cNvSpPr/>
          <p:nvPr/>
        </p:nvSpPr>
        <p:spPr>
          <a:xfrm>
            <a:off x="7731000" y="4051440"/>
            <a:ext cx="1716120" cy="839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11"/>
          <p:cNvSpPr/>
          <p:nvPr/>
        </p:nvSpPr>
        <p:spPr>
          <a:xfrm>
            <a:off x="4038480" y="4081320"/>
            <a:ext cx="160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CALLADO, FELIX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 [ET-I]     {R3E}              ETA: 28 MAY 10              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34872BR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36"/>
          <p:cNvSpPr/>
          <p:nvPr/>
        </p:nvSpPr>
        <p:spPr>
          <a:xfrm>
            <a:off x="2076480" y="4081320"/>
            <a:ext cx="160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ROACH, ERIC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[FSA-J]    {S3A}  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ISO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9001               DEP: 07 JUL 10                        (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6285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11"/>
          <p:cNvSpPr/>
          <p:nvPr/>
        </p:nvSpPr>
        <p:spPr>
          <a:xfrm>
            <a:off x="2019240" y="3338640"/>
            <a:ext cx="1656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NELSON,  DANILO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[FST-J]  {R3E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TBD                       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(36877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ounded Rectangle 62"/>
          <p:cNvSpPr/>
          <p:nvPr/>
        </p:nvSpPr>
        <p:spPr>
          <a:xfrm>
            <a:off x="1962000" y="3052800"/>
            <a:ext cx="1730520" cy="106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14"/>
          <p:cNvSpPr/>
          <p:nvPr/>
        </p:nvSpPr>
        <p:spPr>
          <a:xfrm>
            <a:off x="4038480" y="3052800"/>
            <a:ext cx="122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VALMEO, RAUL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[PMS-J] {S3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ETA: 04 APR 10        (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6571BR)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ounded Rectangle 66"/>
          <p:cNvSpPr/>
          <p:nvPr/>
        </p:nvSpPr>
        <p:spPr>
          <a:xfrm>
            <a:off x="3922560" y="2995560"/>
            <a:ext cx="1731960" cy="5144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AutoShape 284"/>
          <p:cNvSpPr/>
          <p:nvPr/>
        </p:nvSpPr>
        <p:spPr>
          <a:xfrm>
            <a:off x="4956120" y="2114640"/>
            <a:ext cx="1716120" cy="1460520"/>
          </a:xfrm>
          <a:prstGeom prst="roundRect">
            <a:avLst>
              <a:gd name="adj" fmla="val 10861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284"/>
          <p:cNvSpPr/>
          <p:nvPr/>
        </p:nvSpPr>
        <p:spPr>
          <a:xfrm>
            <a:off x="6732720" y="2104920"/>
            <a:ext cx="1771560" cy="2490840"/>
          </a:xfrm>
          <a:custGeom>
            <a:avLst/>
            <a:gdLst>
              <a:gd name="textAreaLeft" fmla="*/ 93960 w 1771560"/>
              <a:gd name="textAreaRight" fmla="*/ 1677600 w 1771560"/>
              <a:gd name="textAreaTop" fmla="*/ 93960 h 2490840"/>
              <a:gd name="textAreaBottom" fmla="*/ 2396880 h 2490840"/>
            </a:gdLst>
            <a:ahLst/>
            <a:rect l="textAreaLeft" t="textAreaTop" r="textAreaRight" b="textAreaBottom"/>
            <a:pathLst>
              <a:path w="21600" h="30368">
                <a:moveTo>
                  <a:pt x="3924" y="0"/>
                </a:moveTo>
                <a:arcTo wR="3924" hR="3924" stAng="16200000" swAng="-5400000"/>
                <a:lnTo>
                  <a:pt x="0" y="26444"/>
                </a:lnTo>
                <a:arcTo wR="3924" hR="3924" stAng="10800000" swAng="-5400000"/>
                <a:lnTo>
                  <a:pt x="17676" y="30368"/>
                </a:lnTo>
                <a:arcTo wR="3924" hR="3924" stAng="5400000" swAng="-5400000"/>
                <a:lnTo>
                  <a:pt x="21600" y="3924"/>
                </a:lnTo>
                <a:arcTo wR="3924" hR="3924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296"/>
          <p:cNvSpPr/>
          <p:nvPr/>
        </p:nvSpPr>
        <p:spPr>
          <a:xfrm>
            <a:off x="4956120" y="3686040"/>
            <a:ext cx="1716120" cy="803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35"/>
          <p:cNvSpPr/>
          <p:nvPr/>
        </p:nvSpPr>
        <p:spPr>
          <a:xfrm>
            <a:off x="1074600" y="3166920"/>
            <a:ext cx="1251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ONCO, SAMU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1 MAY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39"/>
          <p:cNvSpPr/>
          <p:nvPr/>
        </p:nvSpPr>
        <p:spPr>
          <a:xfrm>
            <a:off x="1049400" y="2297160"/>
            <a:ext cx="14778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TINSON, BRUC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SL] {S3A}                    IC: 29 MAR 08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07"/>
          <p:cNvSpPr/>
          <p:nvPr/>
        </p:nvSpPr>
        <p:spPr>
          <a:xfrm>
            <a:off x="1054080" y="2563920"/>
            <a:ext cx="1562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LDWIN, EBONI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R3E}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JUN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284"/>
          <p:cNvSpPr/>
          <p:nvPr/>
        </p:nvSpPr>
        <p:spPr>
          <a:xfrm>
            <a:off x="939960" y="2075040"/>
            <a:ext cx="1746000" cy="8064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296"/>
          <p:cNvSpPr/>
          <p:nvPr/>
        </p:nvSpPr>
        <p:spPr>
          <a:xfrm>
            <a:off x="976320" y="2954160"/>
            <a:ext cx="1716120" cy="1352880"/>
          </a:xfrm>
          <a:prstGeom prst="roundRect">
            <a:avLst>
              <a:gd name="adj" fmla="val 9602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40"/>
          <p:cNvSpPr/>
          <p:nvPr/>
        </p:nvSpPr>
        <p:spPr>
          <a:xfrm>
            <a:off x="2960640" y="2481120"/>
            <a:ext cx="155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OLBOLDT, PAU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S3A}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8 APR 09   (TS/SCI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07"/>
          <p:cNvSpPr/>
          <p:nvPr/>
        </p:nvSpPr>
        <p:spPr>
          <a:xfrm>
            <a:off x="6854760" y="2881440"/>
            <a:ext cx="1643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LLINS, ROBER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FST-J]   {X2K}                  IC: 04 MAY 09  (TS/SCI )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30"/>
          <p:cNvSpPr/>
          <p:nvPr/>
        </p:nvSpPr>
        <p:spPr>
          <a:xfrm>
            <a:off x="6854760" y="2370240"/>
            <a:ext cx="1576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URTNEY, JO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3 MAY 08  (TECH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63"/>
          <p:cNvSpPr/>
          <p:nvPr/>
        </p:nvSpPr>
        <p:spPr>
          <a:xfrm>
            <a:off x="5065560" y="2625840"/>
            <a:ext cx="157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OHNSON, RODNE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{S3A}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 OCT 08    (Transportatio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66"/>
          <p:cNvSpPr/>
          <p:nvPr/>
        </p:nvSpPr>
        <p:spPr>
          <a:xfrm>
            <a:off x="5065560" y="2881440"/>
            <a:ext cx="1578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RESTON, JAM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 {S3A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05 DEC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10"/>
          <p:cNvSpPr/>
          <p:nvPr/>
        </p:nvSpPr>
        <p:spPr>
          <a:xfrm>
            <a:off x="5065560" y="2370240"/>
            <a:ext cx="1630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ENETTE, TRINI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R3E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6 JUL 08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304"/>
          <p:cNvSpPr/>
          <p:nvPr/>
        </p:nvSpPr>
        <p:spPr>
          <a:xfrm>
            <a:off x="5065560" y="3905280"/>
            <a:ext cx="1540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ILLIAMS, DERI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09 MAY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333"/>
          <p:cNvSpPr/>
          <p:nvPr/>
        </p:nvSpPr>
        <p:spPr>
          <a:xfrm>
            <a:off x="2960640" y="2709720"/>
            <a:ext cx="1590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EONARD, CHARL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)  {DT1}                 IC: 04 JULY 09 (Rotational / BRAGG)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38"/>
          <p:cNvSpPr/>
          <p:nvPr/>
        </p:nvSpPr>
        <p:spPr>
          <a:xfrm>
            <a:off x="6854760" y="2625840"/>
            <a:ext cx="1579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USCH, CHRISTOPH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DT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2 MAY 09 (TS/SCI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41"/>
          <p:cNvSpPr/>
          <p:nvPr/>
        </p:nvSpPr>
        <p:spPr>
          <a:xfrm>
            <a:off x="2960640" y="225252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LUNKET, JOH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DEC 08  (DEPUTY MANAGER)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11"/>
          <p:cNvSpPr/>
          <p:nvPr/>
        </p:nvSpPr>
        <p:spPr>
          <a:xfrm>
            <a:off x="2960640" y="316692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AYLOR, ERNEST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6 DEC 09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02"/>
          <p:cNvSpPr/>
          <p:nvPr/>
        </p:nvSpPr>
        <p:spPr>
          <a:xfrm>
            <a:off x="5065560" y="4124160"/>
            <a:ext cx="1570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UTLER, WILLIAM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{AR1}                                       IC: 28 NOV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11"/>
          <p:cNvSpPr/>
          <p:nvPr/>
        </p:nvSpPr>
        <p:spPr>
          <a:xfrm>
            <a:off x="2960640" y="293832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INDAL, BRANDO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 {X2D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5 DEC 09 (Rotational  / BRAGG)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284"/>
          <p:cNvSpPr/>
          <p:nvPr/>
        </p:nvSpPr>
        <p:spPr>
          <a:xfrm>
            <a:off x="976320" y="4416480"/>
            <a:ext cx="1727280" cy="985680"/>
          </a:xfrm>
          <a:prstGeom prst="roundRect">
            <a:avLst>
              <a:gd name="adj" fmla="val 1279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mbedded Prophet Support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11"/>
          <p:cNvSpPr/>
          <p:nvPr/>
        </p:nvSpPr>
        <p:spPr>
          <a:xfrm>
            <a:off x="1041480" y="484200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TTON, ROBERT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1 MAR 10 (Rotational  / Lewis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11"/>
          <p:cNvSpPr/>
          <p:nvPr/>
        </p:nvSpPr>
        <p:spPr>
          <a:xfrm>
            <a:off x="1049400" y="511020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EETER, HAROLD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7 MAR 10   (Rotational  / Hoo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11"/>
          <p:cNvSpPr/>
          <p:nvPr/>
        </p:nvSpPr>
        <p:spPr>
          <a:xfrm>
            <a:off x="6789600" y="505296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IBSON, JACOB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27 MAR 10 (Rotational  / Lewis)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11"/>
          <p:cNvSpPr/>
          <p:nvPr/>
        </p:nvSpPr>
        <p:spPr>
          <a:xfrm>
            <a:off x="6789600" y="527220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WEST, TIMOTHY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TBD              (Rotational  / Hood)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284"/>
          <p:cNvSpPr/>
          <p:nvPr/>
        </p:nvSpPr>
        <p:spPr>
          <a:xfrm>
            <a:off x="6732720" y="4710240"/>
            <a:ext cx="1752480" cy="871560"/>
          </a:xfrm>
          <a:prstGeom prst="roundRect">
            <a:avLst>
              <a:gd name="adj" fmla="val 1279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mbedded Prophet Support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311"/>
          <p:cNvSpPr/>
          <p:nvPr/>
        </p:nvSpPr>
        <p:spPr>
          <a:xfrm>
            <a:off x="2903400" y="4081320"/>
            <a:ext cx="160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AWRENCE, JERMEL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 {R3X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9 JAN 10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296"/>
          <p:cNvSpPr/>
          <p:nvPr/>
        </p:nvSpPr>
        <p:spPr>
          <a:xfrm>
            <a:off x="4956120" y="4562640"/>
            <a:ext cx="1716120" cy="803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Find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314"/>
          <p:cNvSpPr/>
          <p:nvPr/>
        </p:nvSpPr>
        <p:spPr>
          <a:xfrm>
            <a:off x="5102280" y="4781520"/>
            <a:ext cx="13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RIS, KERRY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L -SL]  {S3K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3 FEB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262"/>
          <p:cNvSpPr/>
          <p:nvPr/>
        </p:nvSpPr>
        <p:spPr>
          <a:xfrm>
            <a:off x="2960640" y="3395520"/>
            <a:ext cx="1602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RISON, MAR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S3A}           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SEP 08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41"/>
          <p:cNvSpPr/>
          <p:nvPr/>
        </p:nvSpPr>
        <p:spPr>
          <a:xfrm>
            <a:off x="6846840" y="35672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BARRO, JEREMIAH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ELT-J]   {X3G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TBD                              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35884B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41"/>
          <p:cNvSpPr/>
          <p:nvPr/>
        </p:nvSpPr>
        <p:spPr>
          <a:xfrm>
            <a:off x="6846840" y="37958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AMATUCCI, JOHN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 [SC-J]     {X3G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ETA: TBD                              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6284B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41"/>
          <p:cNvSpPr/>
          <p:nvPr/>
        </p:nvSpPr>
        <p:spPr>
          <a:xfrm>
            <a:off x="6846840" y="40244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[ELT-SL)  {X3G}   C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TBD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45"/>
          <p:cNvSpPr/>
          <p:nvPr/>
        </p:nvSpPr>
        <p:spPr>
          <a:xfrm>
            <a:off x="3072960" y="3852720"/>
            <a:ext cx="116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–T MST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7"/>
          <p:cNvSpPr/>
          <p:nvPr/>
        </p:nvSpPr>
        <p:spPr>
          <a:xfrm>
            <a:off x="3006360" y="1967040"/>
            <a:ext cx="134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ounded Rectangle 49"/>
          <p:cNvSpPr/>
          <p:nvPr/>
        </p:nvSpPr>
        <p:spPr>
          <a:xfrm>
            <a:off x="2789280" y="1967040"/>
            <a:ext cx="1714320" cy="1771560"/>
          </a:xfrm>
          <a:custGeom>
            <a:avLst/>
            <a:gdLst>
              <a:gd name="textAreaLeft" fmla="*/ 54720 w 1714320"/>
              <a:gd name="textAreaRight" fmla="*/ 1659600 w 1714320"/>
              <a:gd name="textAreaTop" fmla="*/ 54720 h 1771560"/>
              <a:gd name="textAreaBottom" fmla="*/ 1716840 h 1771560"/>
            </a:gdLst>
            <a:ahLst/>
            <a:rect l="textAreaLeft" t="textAreaTop" r="textAreaRight" b="textAreaBottom"/>
            <a:pathLst>
              <a:path w="21600" h="22321">
                <a:moveTo>
                  <a:pt x="2357" y="0"/>
                </a:moveTo>
                <a:arcTo wR="2357" hR="2357" stAng="16200000" swAng="-5400000"/>
                <a:lnTo>
                  <a:pt x="0" y="19964"/>
                </a:lnTo>
                <a:arcTo wR="2357" hR="2357" stAng="10800000" swAng="-5400000"/>
                <a:lnTo>
                  <a:pt x="19243" y="22321"/>
                </a:lnTo>
                <a:arcTo wR="2357" hR="2357" stAng="5400000" swAng="-5400000"/>
                <a:lnTo>
                  <a:pt x="21600" y="2357"/>
                </a:lnTo>
                <a:arcTo wR="2357" hR="2357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ounded Rectangle 50"/>
          <p:cNvSpPr/>
          <p:nvPr/>
        </p:nvSpPr>
        <p:spPr>
          <a:xfrm>
            <a:off x="2789280" y="3852720"/>
            <a:ext cx="1714320" cy="6289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41"/>
          <p:cNvSpPr/>
          <p:nvPr/>
        </p:nvSpPr>
        <p:spPr>
          <a:xfrm>
            <a:off x="6846840" y="33386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CRUZ, FELIX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 [ELT-I]   {X3G}  C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17 APRIL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ounded Rectangle 48"/>
          <p:cNvSpPr/>
          <p:nvPr/>
        </p:nvSpPr>
        <p:spPr>
          <a:xfrm>
            <a:off x="6732720" y="3110040"/>
            <a:ext cx="1771560" cy="1485720"/>
          </a:xfrm>
          <a:prstGeom prst="roundRect">
            <a:avLst>
              <a:gd name="adj" fmla="val 21690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ZMO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reeform 4"/>
          <p:cNvSpPr/>
          <p:nvPr/>
        </p:nvSpPr>
        <p:spPr>
          <a:xfrm>
            <a:off x="5859360" y="2549520"/>
            <a:ext cx="112680" cy="1080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287080" y="168120"/>
            <a:ext cx="4658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: 04/09/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2836800" y="1305000"/>
            <a:ext cx="3694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trick Lus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L) Program Manager – Executive Scientist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1000080" y="890640"/>
            <a:ext cx="7386840" cy="21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Tech – Chantilly V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6673680" y="2184480"/>
            <a:ext cx="261648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arl Wats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G) Deputy Program Manager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SC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210960" y="2163600"/>
            <a:ext cx="2430720" cy="41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Roy Bel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M) Program Manager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gistics /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564240" y="2797200"/>
          <a:ext cx="4386240" cy="563400"/>
        </p:xfrm>
        <a:graphic>
          <a:graphicData uri="http://schemas.openxmlformats.org/drawingml/2006/table">
            <a:tbl>
              <a:tblPr/>
              <a:tblGrid>
                <a:gridCol w="179640"/>
                <a:gridCol w="649080"/>
                <a:gridCol w="557280"/>
                <a:gridCol w="306360"/>
                <a:gridCol w="2693880"/>
              </a:tblGrid>
              <a:tr h="1890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var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-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’Nei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ess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oth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Specialist –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220680" y="2886120"/>
          <a:ext cx="3895560" cy="2309760"/>
        </p:xfrm>
        <a:graphic>
          <a:graphicData uri="http://schemas.openxmlformats.org/drawingml/2006/table">
            <a:tbl>
              <a:tblPr/>
              <a:tblGrid>
                <a:gridCol w="158760"/>
                <a:gridCol w="576360"/>
                <a:gridCol w="380880"/>
                <a:gridCol w="270000"/>
                <a:gridCol w="2509560"/>
              </a:tblGrid>
              <a:tr h="20016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ki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r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gmt.  Speciali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han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oll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gmt. Specialist -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zger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gmt. Specialist -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zgeral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le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co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fl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. Analyst (Architecture)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h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c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a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gmt. Speciali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Line 99"/>
          <p:cNvSpPr/>
          <p:nvPr/>
        </p:nvSpPr>
        <p:spPr>
          <a:xfrm>
            <a:off x="6230880" y="1897200"/>
            <a:ext cx="46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00"/>
          <p:cNvSpPr/>
          <p:nvPr/>
        </p:nvSpPr>
        <p:spPr>
          <a:xfrm>
            <a:off x="6230880" y="1976400"/>
            <a:ext cx="46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01"/>
          <p:cNvSpPr/>
          <p:nvPr/>
        </p:nvSpPr>
        <p:spPr>
          <a:xfrm>
            <a:off x="4770360" y="158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"/>
          <p:cNvSpPr/>
          <p:nvPr/>
        </p:nvSpPr>
        <p:spPr>
          <a:xfrm>
            <a:off x="3378240" y="2184480"/>
            <a:ext cx="261612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andra Casson-Dickers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G) Program Manager, Deputy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216240" y="2776680"/>
          <a:ext cx="3471840" cy="1811160"/>
        </p:xfrm>
        <a:graphic>
          <a:graphicData uri="http://schemas.openxmlformats.org/drawingml/2006/table">
            <a:tbl>
              <a:tblPr/>
              <a:tblGrid>
                <a:gridCol w="142920"/>
                <a:gridCol w="855720"/>
                <a:gridCol w="511200"/>
                <a:gridCol w="209520"/>
                <a:gridCol w="1752480"/>
              </a:tblGrid>
              <a:tr h="1774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d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you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y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mt. Assistan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h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olon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w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m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–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k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engnopakunsr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u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nnet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nk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sab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mt. Assistan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orary Hi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Freeform 177"/>
          <p:cNvSpPr/>
          <p:nvPr/>
        </p:nvSpPr>
        <p:spPr>
          <a:xfrm flipV="1">
            <a:off x="6481800" y="1417680"/>
            <a:ext cx="654120" cy="108000"/>
          </a:xfrm>
          <a:prstGeom prst="pie">
            <a:avLst/>
          </a:prstGeom>
          <a:noFill/>
          <a:ln w="158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78"/>
          <p:cNvSpPr/>
          <p:nvPr/>
        </p:nvSpPr>
        <p:spPr>
          <a:xfrm>
            <a:off x="7145280" y="1393920"/>
            <a:ext cx="164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rie Spates – Mgmt Specialist - J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058080" y="4417920"/>
          <a:ext cx="3635280" cy="542880"/>
        </p:xfrm>
        <a:graphic>
          <a:graphicData uri="http://schemas.openxmlformats.org/drawingml/2006/table">
            <a:tbl>
              <a:tblPr/>
              <a:tblGrid>
                <a:gridCol w="145800"/>
                <a:gridCol w="382680"/>
                <a:gridCol w="385920"/>
                <a:gridCol w="298440"/>
                <a:gridCol w="2422440"/>
              </a:tblGrid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Text Box 209"/>
          <p:cNvSpPr/>
          <p:nvPr/>
        </p:nvSpPr>
        <p:spPr>
          <a:xfrm>
            <a:off x="6616800" y="3735360"/>
            <a:ext cx="261288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ncoming Personn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Date Placeholder 18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7A28-061F-4ADA-974D-AA6BF3A9C91A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_s2135"/>
          <p:cNvSpPr/>
          <p:nvPr/>
        </p:nvSpPr>
        <p:spPr>
          <a:xfrm>
            <a:off x="3641760" y="1347840"/>
            <a:ext cx="208116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 u="sng">
                <a:solidFill>
                  <a:srgbClr val="008000"/>
                </a:solidFill>
                <a:uFillTx/>
                <a:latin typeface="Arial"/>
              </a:rPr>
              <a:t>ARINELLO, DENNIS</a:t>
            </a: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 [PMD-SL] {X2U}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IC: 21 DEC 08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64"/>
          <p:cNvSpPr/>
          <p:nvPr/>
        </p:nvSpPr>
        <p:spPr>
          <a:xfrm>
            <a:off x="3075120" y="2938320"/>
            <a:ext cx="1609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RAHAM, ERIC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{X2U} (CSC)                   IC: 04 APR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70"/>
          <p:cNvSpPr/>
          <p:nvPr/>
        </p:nvSpPr>
        <p:spPr>
          <a:xfrm>
            <a:off x="830160" y="2406600"/>
            <a:ext cx="1825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TTRELL, WALT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D-SL]  {X2N}  (OCCAM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18 AUG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70"/>
          <p:cNvSpPr/>
          <p:nvPr/>
        </p:nvSpPr>
        <p:spPr>
          <a:xfrm>
            <a:off x="830160" y="3209760"/>
            <a:ext cx="1752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UDDELL, CHRI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D-SL]  {X2N} (OCCAM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6 OCT 09 (PROJECT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70"/>
          <p:cNvSpPr/>
          <p:nvPr/>
        </p:nvSpPr>
        <p:spPr>
          <a:xfrm>
            <a:off x="6286680" y="1419120"/>
            <a:ext cx="1679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RIGHT, WILLI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D-SL] {X2U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9 AUG 08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70"/>
          <p:cNvSpPr/>
          <p:nvPr/>
        </p:nvSpPr>
        <p:spPr>
          <a:xfrm>
            <a:off x="789120" y="5052960"/>
            <a:ext cx="1600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UCKETT, CURTI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J] {X2U}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4 JUL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0"/>
          <p:cNvSpPr/>
          <p:nvPr/>
        </p:nvSpPr>
        <p:spPr>
          <a:xfrm>
            <a:off x="3075120" y="2709720"/>
            <a:ext cx="1633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RNABE, DANI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SL] {X2U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JUL 20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0"/>
          <p:cNvSpPr/>
          <p:nvPr/>
        </p:nvSpPr>
        <p:spPr>
          <a:xfrm>
            <a:off x="3075120" y="3395520"/>
            <a:ext cx="1606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UERTO, WILLIAM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ELT-J] {X2U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 SEP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70"/>
          <p:cNvSpPr/>
          <p:nvPr/>
        </p:nvSpPr>
        <p:spPr>
          <a:xfrm>
            <a:off x="3075120" y="3166920"/>
            <a:ext cx="1568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NORRIS, BR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{X2U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3 AUG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63"/>
          <p:cNvSpPr/>
          <p:nvPr/>
        </p:nvSpPr>
        <p:spPr>
          <a:xfrm>
            <a:off x="3075120" y="2484360"/>
            <a:ext cx="1603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EHRS, STEVE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SL] {X2U) (OCCAM)    IC: 04 MAY 09  (TECH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70"/>
          <p:cNvSpPr/>
          <p:nvPr/>
        </p:nvSpPr>
        <p:spPr>
          <a:xfrm>
            <a:off x="4911840" y="2484360"/>
            <a:ext cx="1619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OWE, FREDERIC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{X2U}  (CSC)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1 DEC 08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70"/>
          <p:cNvSpPr/>
          <p:nvPr/>
        </p:nvSpPr>
        <p:spPr>
          <a:xfrm>
            <a:off x="3075120" y="362412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IYAZAKI, LAWRENCE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ELT-I] {X2U)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2 SEP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70"/>
          <p:cNvSpPr/>
          <p:nvPr/>
        </p:nvSpPr>
        <p:spPr>
          <a:xfrm>
            <a:off x="830160" y="2954160"/>
            <a:ext cx="172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UHAMMAD, KEITH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L-SL]  { X2N}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1 NOV 08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0"/>
          <p:cNvSpPr/>
          <p:nvPr/>
        </p:nvSpPr>
        <p:spPr>
          <a:xfrm>
            <a:off x="789120" y="5853240"/>
            <a:ext cx="1898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ESTERSON, JONATH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SL] {X2U}                         IC:  31 JAN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70"/>
          <p:cNvSpPr/>
          <p:nvPr/>
        </p:nvSpPr>
        <p:spPr>
          <a:xfrm>
            <a:off x="4903920" y="2709720"/>
            <a:ext cx="1619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ATKINS, JONATH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I] {X2U} (CSC)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30 APR 09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70"/>
          <p:cNvSpPr/>
          <p:nvPr/>
        </p:nvSpPr>
        <p:spPr>
          <a:xfrm>
            <a:off x="789120" y="5272200"/>
            <a:ext cx="1679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GUIRE, DIO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X2U}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DEC 09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70"/>
          <p:cNvSpPr/>
          <p:nvPr/>
        </p:nvSpPr>
        <p:spPr>
          <a:xfrm>
            <a:off x="830160" y="2693880"/>
            <a:ext cx="1898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LEMING, DAVI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D-SL]  {X2N}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09 DEC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62"/>
          <p:cNvSpPr/>
          <p:nvPr/>
        </p:nvSpPr>
        <p:spPr>
          <a:xfrm>
            <a:off x="4903920" y="2938320"/>
            <a:ext cx="1655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IAZ, ALFREDO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ELT-J]   {X2U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JAN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0"/>
          <p:cNvSpPr/>
          <p:nvPr/>
        </p:nvSpPr>
        <p:spPr>
          <a:xfrm>
            <a:off x="4905360" y="3624120"/>
            <a:ext cx="1763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NORMAN, RICHARD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ELT-SL]   {X2U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TB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0"/>
          <p:cNvSpPr/>
          <p:nvPr/>
        </p:nvSpPr>
        <p:spPr>
          <a:xfrm>
            <a:off x="4903920" y="3166920"/>
            <a:ext cx="1692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MURRAY, BRA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ELT-J]  {X2U}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4 AP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703440" y="2138400"/>
            <a:ext cx="2016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A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29"/>
          <p:cNvSpPr/>
          <p:nvPr/>
        </p:nvSpPr>
        <p:spPr>
          <a:xfrm>
            <a:off x="641520" y="5630760"/>
            <a:ext cx="2087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9"/>
          <p:cNvSpPr/>
          <p:nvPr/>
        </p:nvSpPr>
        <p:spPr>
          <a:xfrm>
            <a:off x="641520" y="4827600"/>
            <a:ext cx="2087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9"/>
          <p:cNvSpPr/>
          <p:nvPr/>
        </p:nvSpPr>
        <p:spPr>
          <a:xfrm>
            <a:off x="6107040" y="1238400"/>
            <a:ext cx="1906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uty Program Manag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9"/>
          <p:cNvSpPr/>
          <p:nvPr/>
        </p:nvSpPr>
        <p:spPr>
          <a:xfrm>
            <a:off x="3002040" y="2306520"/>
            <a:ext cx="37447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visors / Train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29"/>
          <p:cNvSpPr/>
          <p:nvPr/>
        </p:nvSpPr>
        <p:spPr>
          <a:xfrm>
            <a:off x="3919680" y="1201680"/>
            <a:ext cx="15159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9"/>
          <p:cNvSpPr/>
          <p:nvPr/>
        </p:nvSpPr>
        <p:spPr>
          <a:xfrm>
            <a:off x="2911320" y="2114640"/>
            <a:ext cx="61563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A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traight Connector 123"/>
          <p:cNvSpPr/>
          <p:nvPr/>
        </p:nvSpPr>
        <p:spPr>
          <a:xfrm>
            <a:off x="4791240" y="2521080"/>
            <a:ext cx="0" cy="328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traight Connector 32"/>
          <p:cNvSpPr/>
          <p:nvPr/>
        </p:nvSpPr>
        <p:spPr>
          <a:xfrm>
            <a:off x="4662360" y="1743120"/>
            <a:ext cx="0" cy="333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Elbow Connector 48"/>
          <p:cNvCxnSpPr/>
          <p:nvPr/>
        </p:nvCxnSpPr>
        <p:spPr>
          <a:xfrm flipV="1" rot="10800000">
            <a:off x="1637640" y="1928520"/>
            <a:ext cx="3024720" cy="148320"/>
          </a:xfrm>
          <a:prstGeom prst="bentConnector3">
            <a:avLst>
              <a:gd name="adj1" fmla="val 100071"/>
            </a:avLst>
          </a:prstGeom>
          <a:ln w="3240">
            <a:solidFill>
              <a:srgbClr val="000000"/>
            </a:solidFill>
            <a:round/>
          </a:ln>
        </p:spPr>
      </p:cxnSp>
      <p:sp>
        <p:nvSpPr>
          <p:cNvPr id="1075" name="Straight Connector 57"/>
          <p:cNvSpPr/>
          <p:nvPr/>
        </p:nvSpPr>
        <p:spPr>
          <a:xfrm flipH="1">
            <a:off x="5796000" y="150480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4"/>
          <p:cNvSpPr/>
          <p:nvPr/>
        </p:nvSpPr>
        <p:spPr>
          <a:xfrm>
            <a:off x="4903920" y="3395520"/>
            <a:ext cx="1726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MORGAN ,GERALD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ELT-SL  {X2U}  (OCCAM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 11 AP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69"/>
          <p:cNvSpPr/>
          <p:nvPr/>
        </p:nvSpPr>
        <p:spPr>
          <a:xfrm>
            <a:off x="6732720" y="2595600"/>
            <a:ext cx="0" cy="328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15"/>
          <p:cNvSpPr/>
          <p:nvPr/>
        </p:nvSpPr>
        <p:spPr>
          <a:xfrm>
            <a:off x="7475400" y="2138400"/>
            <a:ext cx="13147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RICHBURG, ANTHONY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(RAPISCAN)   ETA: TB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4"/>
          <p:cNvSpPr/>
          <p:nvPr/>
        </p:nvSpPr>
        <p:spPr>
          <a:xfrm>
            <a:off x="960480" y="2176560"/>
            <a:ext cx="1143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 {S3T}                                    ETA: TB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5"/>
          <p:cNvSpPr/>
          <p:nvPr/>
        </p:nvSpPr>
        <p:spPr>
          <a:xfrm>
            <a:off x="960480" y="1957320"/>
            <a:ext cx="11192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ESPIRITU, CHRIST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S3T}                                       IC:  24 SEP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6"/>
          <p:cNvSpPr/>
          <p:nvPr/>
        </p:nvSpPr>
        <p:spPr>
          <a:xfrm>
            <a:off x="960480" y="1738440"/>
            <a:ext cx="1278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IVEY, DANIEL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S3T}                                       IC: 30 APR 06 (THEATER LEA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47"/>
          <p:cNvSpPr/>
          <p:nvPr/>
        </p:nvSpPr>
        <p:spPr>
          <a:xfrm>
            <a:off x="942840" y="3247920"/>
            <a:ext cx="13654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INEY, DAMON  {T3Q}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                IC: 29 DEC 06 (OEF LEA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30"/>
          <p:cNvSpPr/>
          <p:nvPr/>
        </p:nvSpPr>
        <p:spPr>
          <a:xfrm>
            <a:off x="7496280" y="4890960"/>
            <a:ext cx="14014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NEY, RY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  IC: 14 FEB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5"/>
          <p:cNvSpPr/>
          <p:nvPr/>
        </p:nvSpPr>
        <p:spPr>
          <a:xfrm>
            <a:off x="3413160" y="3638520"/>
            <a:ext cx="103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SSON, STEVE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  IC: 5 APR 04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7"/>
          <p:cNvSpPr/>
          <p:nvPr/>
        </p:nvSpPr>
        <p:spPr>
          <a:xfrm>
            <a:off x="5132520" y="3281400"/>
            <a:ext cx="9223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’SILVA, MAR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S3P}                         IC: 14 FEB 07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5127480" y="2610000"/>
            <a:ext cx="887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OLONEY, PAUL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BV7}                          IC: 26 MAY 08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3417840" y="385272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ROUD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   IC: 16 JUL 05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66"/>
          <p:cNvSpPr/>
          <p:nvPr/>
        </p:nvSpPr>
        <p:spPr>
          <a:xfrm>
            <a:off x="4270320" y="1452600"/>
            <a:ext cx="1387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AULER, THOMAS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{S3P}                     IC: 27 JAN 07   (THEATER MANAGER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2"/>
          <p:cNvSpPr/>
          <p:nvPr/>
        </p:nvSpPr>
        <p:spPr>
          <a:xfrm>
            <a:off x="3475080" y="551016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UDNICKI, MICHAEL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AF1}                             IC:  27 FEB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68"/>
          <p:cNvSpPr/>
          <p:nvPr/>
        </p:nvSpPr>
        <p:spPr>
          <a:xfrm>
            <a:off x="5127480" y="2038320"/>
            <a:ext cx="1065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RMSTRONG, DAVI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BV7}           IC: 21 FEB 06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8"/>
          <p:cNvSpPr/>
          <p:nvPr/>
        </p:nvSpPr>
        <p:spPr>
          <a:xfrm>
            <a:off x="5127480" y="2324160"/>
            <a:ext cx="968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OAK, ROGER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BV7}                        IC: 12 DEC 0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68"/>
          <p:cNvSpPr/>
          <p:nvPr/>
        </p:nvSpPr>
        <p:spPr>
          <a:xfrm>
            <a:off x="3413160" y="3181320"/>
            <a:ext cx="1204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CARTHY, FRAZIER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S3P}                       IC: 3 MAR 08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68"/>
          <p:cNvSpPr/>
          <p:nvPr/>
        </p:nvSpPr>
        <p:spPr>
          <a:xfrm>
            <a:off x="3413160" y="3409920"/>
            <a:ext cx="10270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ILLION, STEPHE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S3P}                       IC: 5 APR 04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68"/>
          <p:cNvSpPr/>
          <p:nvPr/>
        </p:nvSpPr>
        <p:spPr>
          <a:xfrm>
            <a:off x="5132520" y="6310440"/>
            <a:ext cx="877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VILLA, ERI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S3P}                      IC: 25 FEB 09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68"/>
          <p:cNvSpPr/>
          <p:nvPr/>
        </p:nvSpPr>
        <p:spPr>
          <a:xfrm>
            <a:off x="5132520" y="539604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USARDI, JOSEPH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AF1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14 JUL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35"/>
          <p:cNvSpPr/>
          <p:nvPr/>
        </p:nvSpPr>
        <p:spPr>
          <a:xfrm>
            <a:off x="846000" y="3452760"/>
            <a:ext cx="1278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ESSIER, BR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T3Q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4OCT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36"/>
          <p:cNvSpPr/>
          <p:nvPr/>
        </p:nvSpPr>
        <p:spPr>
          <a:xfrm>
            <a:off x="4960800" y="5281560"/>
            <a:ext cx="0" cy="148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61"/>
          <p:cNvSpPr/>
          <p:nvPr/>
        </p:nvSpPr>
        <p:spPr>
          <a:xfrm>
            <a:off x="3417840" y="4108320"/>
            <a:ext cx="934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RKS, GAR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   IC: 04 OCT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2"/>
          <p:cNvSpPr/>
          <p:nvPr/>
        </p:nvSpPr>
        <p:spPr>
          <a:xfrm>
            <a:off x="3475080" y="528156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RANEK, BR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AF1}            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OCT 09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211"/>
          <p:cNvSpPr/>
          <p:nvPr/>
        </p:nvSpPr>
        <p:spPr>
          <a:xfrm>
            <a:off x="7475400" y="3852720"/>
            <a:ext cx="15400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LCHER, DAVID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(RAPISCAN)               IC: 01 DEC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68"/>
          <p:cNvSpPr/>
          <p:nvPr/>
        </p:nvSpPr>
        <p:spPr>
          <a:xfrm>
            <a:off x="3475080" y="648180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EINHOLD, BROO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X2J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 31 OCT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68"/>
          <p:cNvSpPr/>
          <p:nvPr/>
        </p:nvSpPr>
        <p:spPr>
          <a:xfrm>
            <a:off x="3475080" y="6253200"/>
            <a:ext cx="1163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ONZALES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(X2J)                     IC: 07 NOV 09  (FOB TOD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9"/>
          <p:cNvSpPr/>
          <p:nvPr/>
        </p:nvSpPr>
        <p:spPr>
          <a:xfrm>
            <a:off x="7443720" y="1738440"/>
            <a:ext cx="1460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AMMERER, STEPHE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                                     IC:28 MA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211"/>
          <p:cNvSpPr/>
          <p:nvPr/>
        </p:nvSpPr>
        <p:spPr>
          <a:xfrm>
            <a:off x="7475400" y="4081320"/>
            <a:ext cx="158292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TEPHENSON, CHARLE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    IC: 02 JAN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211"/>
          <p:cNvSpPr/>
          <p:nvPr/>
        </p:nvSpPr>
        <p:spPr>
          <a:xfrm>
            <a:off x="7475400" y="2995560"/>
            <a:ext cx="14241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WANSON, ROBER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         IC: 02 JAN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211"/>
          <p:cNvSpPr/>
          <p:nvPr/>
        </p:nvSpPr>
        <p:spPr>
          <a:xfrm>
            <a:off x="7500960" y="5110200"/>
            <a:ext cx="1423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MILLAN,  ANDREW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                 IC: 02 JAN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52"/>
          <p:cNvSpPr/>
          <p:nvPr/>
        </p:nvSpPr>
        <p:spPr>
          <a:xfrm>
            <a:off x="3417840" y="2023920"/>
            <a:ext cx="1163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SCHEEL, BRUCE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BB8}          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C: 12 DEC 09     vacation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51"/>
          <p:cNvSpPr/>
          <p:nvPr/>
        </p:nvSpPr>
        <p:spPr>
          <a:xfrm>
            <a:off x="5132520" y="5614920"/>
            <a:ext cx="9856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SIEFERT, WILLIAM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AF1} IC: 20 JAN 10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68"/>
          <p:cNvSpPr/>
          <p:nvPr/>
        </p:nvSpPr>
        <p:spPr>
          <a:xfrm>
            <a:off x="5132520" y="6081840"/>
            <a:ext cx="103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NCHEZ, JOSEPH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IC: 15 JUN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ounded Rectangle 53"/>
          <p:cNvSpPr/>
          <p:nvPr/>
        </p:nvSpPr>
        <p:spPr>
          <a:xfrm>
            <a:off x="7304040" y="2023920"/>
            <a:ext cx="1771560" cy="628920"/>
          </a:xfrm>
          <a:prstGeom prst="roundRect">
            <a:avLst>
              <a:gd name="adj" fmla="val 30273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65"/>
          <p:cNvSpPr/>
          <p:nvPr/>
        </p:nvSpPr>
        <p:spPr>
          <a:xfrm>
            <a:off x="3417840" y="225252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ICKMAN, CHRI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BB8}                           IC: 20 JUN 0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8"/>
          <p:cNvSpPr/>
          <p:nvPr/>
        </p:nvSpPr>
        <p:spPr>
          <a:xfrm>
            <a:off x="5127480" y="4267080"/>
            <a:ext cx="1163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DESTY, CHARLE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X2J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19 FEB 20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68"/>
          <p:cNvSpPr/>
          <p:nvPr/>
        </p:nvSpPr>
        <p:spPr>
          <a:xfrm>
            <a:off x="5132520" y="2938320"/>
            <a:ext cx="103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YARE, DAVID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S3P}                       IC: 24 FEB 20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8"/>
          <p:cNvSpPr/>
          <p:nvPr/>
        </p:nvSpPr>
        <p:spPr>
          <a:xfrm>
            <a:off x="5132520" y="6996240"/>
            <a:ext cx="1163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BOOKER, DEAN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{X2J}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    IC: 19 FEB 2010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ounded Rectangle 55"/>
          <p:cNvSpPr/>
          <p:nvPr/>
        </p:nvSpPr>
        <p:spPr>
          <a:xfrm>
            <a:off x="3360600" y="6081840"/>
            <a:ext cx="1486080" cy="1028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68"/>
          <p:cNvSpPr/>
          <p:nvPr/>
        </p:nvSpPr>
        <p:spPr>
          <a:xfrm>
            <a:off x="3475080" y="671040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LLREICH, ERIK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X2J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30 MAR 20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8"/>
          <p:cNvSpPr/>
          <p:nvPr/>
        </p:nvSpPr>
        <p:spPr>
          <a:xfrm>
            <a:off x="5132520" y="585324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URPHY, BRUC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AF1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28 MA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56"/>
          <p:cNvSpPr/>
          <p:nvPr/>
        </p:nvSpPr>
        <p:spPr>
          <a:xfrm>
            <a:off x="5132520" y="6767640"/>
            <a:ext cx="968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OHERTY, SE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{X2J}              IC: 30 DEC 06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11"/>
          <p:cNvSpPr/>
          <p:nvPr/>
        </p:nvSpPr>
        <p:spPr>
          <a:xfrm>
            <a:off x="7500960" y="4309920"/>
            <a:ext cx="1423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LAYNE, GERALD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(RAPISCAN)          ETA : 15 MAY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19"/>
          <p:cNvSpPr/>
          <p:nvPr/>
        </p:nvSpPr>
        <p:spPr>
          <a:xfrm>
            <a:off x="160200" y="515880"/>
            <a:ext cx="1828800" cy="1511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TRACTING OFFIC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lson Dunc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acting Officer for S3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gic Services Sourcing, CCCE-CM-T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COM Contracting Cen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A, U.S. Army Contracting Command Communications-Electronics Comman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: (732) 532-4148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N: (312) 992-4148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elson.Duncan@conus.army.mi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20"/>
          <p:cNvSpPr/>
          <p:nvPr/>
        </p:nvSpPr>
        <p:spPr>
          <a:xfrm>
            <a:off x="7189920" y="600480"/>
            <a:ext cx="2057400" cy="10245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ctr" anchorCtr="1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OVT  COR - Point Of Contac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bert  A. Poppel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e Manager - CECOM ESSC-SW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 Arifj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318-430-462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ll:  011-965-967-4587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800" spc="-1" strike="noStrike" u="sng">
                <a:solidFill>
                  <a:srgbClr val="3c8c93"/>
                </a:solidFill>
                <a:uFillTx/>
                <a:latin typeface="Arial"/>
              </a:rPr>
              <a:t>CECOMLCMCESSC@k</a:t>
            </a:r>
            <a:r>
              <a:rPr b="1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wait.swa.army.mi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27"/>
          <p:cNvSpPr/>
          <p:nvPr/>
        </p:nvSpPr>
        <p:spPr>
          <a:xfrm>
            <a:off x="4046400" y="185256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ul J Gregor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4ISR RSC SWA Directo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28"/>
          <p:cNvSpPr/>
          <p:nvPr/>
        </p:nvSpPr>
        <p:spPr>
          <a:xfrm>
            <a:off x="-41400" y="2552760"/>
            <a:ext cx="13874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ram Airfiel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W91M2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W4GV4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avid Este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381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39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 381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31-7060( Cell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011-937-9984-3158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vid.Estes@ManTech.co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re Kirk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81-844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VoIP: 318-431-584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SHAN: 079-746-122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andre.l.kirk@afghan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Bruce Stins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Zola Steel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Manager – OE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388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 388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4597a0"/>
                </a:solidFill>
                <a:uFillTx/>
                <a:latin typeface="Arial"/>
              </a:rPr>
              <a:t>Zo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a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Steele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RSC (CECOM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ram Air Bas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5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C4ISR MANTECH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 Site, Bldg. 403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tn: David Este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ram Airbase, Afghanista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5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29"/>
          <p:cNvSpPr/>
          <p:nvPr/>
        </p:nvSpPr>
        <p:spPr>
          <a:xfrm>
            <a:off x="2655720" y="2516040"/>
            <a:ext cx="1611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Arifja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D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144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W4GV0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ul J. Gregor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WA Regional Support Center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30-462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 011-965-389-462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ll: 011-965-988-468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ul.J.Gregory@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uwait.swa. army.mi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John Denni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WA Regional Support Center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puty Directo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30-41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011-965-9988-41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john.dennis@kuwait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ogistics Manager: Jose Marrer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Poppel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 – CECOM ESSC-SW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: 318-430-462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ll:  011-965-967-4587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CECOMLCMCESSC@           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k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wait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Bldg 75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 SWA (ManTech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ldg 75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30"/>
          <p:cNvSpPr/>
          <p:nvPr/>
        </p:nvSpPr>
        <p:spPr>
          <a:xfrm>
            <a:off x="1346040" y="2516040"/>
            <a:ext cx="1454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andahar, Afghanista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andahar Airfiel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W91M2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W4GV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andy Caswel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801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011-937-0660-206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andy.Caswell@u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re Kirk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81-844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VoIP: 318-431-584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SHAN: 079-746-122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andre.l.kirk@afghan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Trini Tenett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iff Cant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Manager - OE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805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 388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4597a0"/>
                </a:solidFill>
                <a:uFillTx/>
                <a:latin typeface="Arial"/>
              </a:rPr>
              <a:t>Clifford.Canty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RSC (CECOM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Kandahar Air Fiel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5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C4ISR MANTECH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 South Park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tn: Randy Caswel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Kandahar AF, Afghanista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5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31"/>
          <p:cNvSpPr/>
          <p:nvPr/>
        </p:nvSpPr>
        <p:spPr>
          <a:xfrm>
            <a:off x="4168800" y="2529000"/>
            <a:ext cx="14065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hd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Liber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W91M2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W4GV3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simir Stryjewski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407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 732-427-5130   Ext 407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 318-485-375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VOIP 302-243-669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asimir.Stryjewski@us.army.mi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Peter Massenburg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ary Dicke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Manager –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X405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X405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4597a0"/>
                </a:solidFill>
                <a:uFillTx/>
                <a:latin typeface="Arial"/>
              </a:rPr>
              <a:t>Gary.D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ckey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/ MANTECH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-LSE (CECOM/R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NIT# 4211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- AE 093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/ CECOM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ilding 14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Libert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hdad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32"/>
          <p:cNvSpPr/>
          <p:nvPr/>
        </p:nvSpPr>
        <p:spPr>
          <a:xfrm>
            <a:off x="5545080" y="2530440"/>
            <a:ext cx="144324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l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Anacond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D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1M2C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:             W4GV4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e Rain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 312-987-5130 ext. 4451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732-427-5130 X445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ene.Rains@us.army.mi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 Martina Pen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Marti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 Manager - 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N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12-98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M: 732-42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-ESSC@MMCS.army.mil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FSB-I (CECOM-MANTECH R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NACOND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9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SC ONL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FRA  MANTECH (NAME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nnsylvania/Sustainer Circle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naconda,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lad, Iraq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9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33"/>
          <p:cNvSpPr/>
          <p:nvPr/>
        </p:nvSpPr>
        <p:spPr>
          <a:xfrm>
            <a:off x="6904080" y="2538360"/>
            <a:ext cx="1440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ikrit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B Speich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1M2B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W4GV3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arry Beckn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 312-987-5130 ext. 844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. 844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arry.Beckner@us.army.mil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Michael Manaoi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Marti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 Manager - 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N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12-98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M: 732-42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-ESSC@MMCS.army.mil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RSC / ManTec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B Speich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9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4ISR RSC – ManTec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tn:  Larry Beckner 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ldg # 520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B Speicher, Tikrit Iraq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9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34"/>
          <p:cNvSpPr/>
          <p:nvPr/>
        </p:nvSpPr>
        <p:spPr>
          <a:xfrm>
            <a:off x="8271000" y="2529000"/>
            <a:ext cx="1431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llil 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llil Airbas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0NDV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W4GV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ill Camer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ting 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42-267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; N/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illiam.Cameron@ManTech.com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ogistician: William Camer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Marti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 Manager - 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N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12-98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M: 732-42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-ESSC@MMCS.army.mil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-JLSE Compoun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4ISR CECOM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/O Bill Camer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l Taqaddum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 09381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-JLSE Compoun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4ISR CECOM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/O Randy Caswel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l Taqaddum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 09381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15"/>
          <p:cNvSpPr/>
          <p:nvPr/>
        </p:nvSpPr>
        <p:spPr>
          <a:xfrm>
            <a:off x="4903920" y="595440"/>
            <a:ext cx="142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nTech Project Lead: Pat Lusk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PHONE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703-488-268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Patrick.Lusk@ManTech.co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agement Technologies (ManTech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chnical Services Grou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14119-A Sullyfield Circl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hantilly, VA 20151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PS and FEDEX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ame as US Ma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5"/>
          <p:cNvSpPr/>
          <p:nvPr/>
        </p:nvSpPr>
        <p:spPr>
          <a:xfrm>
            <a:off x="3246480" y="595440"/>
            <a:ext cx="13716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SC Project Lead: Mike Barcla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PHONE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703-876-135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mbarclay@csc.co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puter Sciences Corpor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fense Division North American Public Secto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3160 Fairview  Park Dr.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alls Church, VA 220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517480" y="2048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3078000" y="1603440"/>
            <a:ext cx="35337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arolyn Palitt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ecutive Director – Ft. Monmouth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968400" y="981000"/>
            <a:ext cx="7756560" cy="36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Tech – Ft. Monmouth NJ -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446200" y="2112840"/>
          <a:ext cx="5734080" cy="258840"/>
        </p:xfrm>
        <a:graphic>
          <a:graphicData uri="http://schemas.openxmlformats.org/drawingml/2006/table">
            <a:tbl>
              <a:tblPr/>
              <a:tblGrid>
                <a:gridCol w="249480"/>
                <a:gridCol w="747720"/>
                <a:gridCol w="758880"/>
                <a:gridCol w="498240"/>
                <a:gridCol w="3479760"/>
              </a:tblGrid>
              <a:tr h="258840"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r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 Manager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SMART-T)</a:t>
                      </a:r>
                      <a:r>
                        <a:rPr b="0" lang="en-US" sz="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Date Placeholder 5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FFD-ACBB-457C-B4A2-95C651D1391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75"/>
          <p:cNvSpPr/>
          <p:nvPr/>
        </p:nvSpPr>
        <p:spPr>
          <a:xfrm>
            <a:off x="4971960" y="1917720"/>
            <a:ext cx="432288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ern RSC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019840" y="2239920"/>
          <a:ext cx="4263840" cy="1565280"/>
        </p:xfrm>
        <a:graphic>
          <a:graphicData uri="http://schemas.openxmlformats.org/drawingml/2006/table">
            <a:tbl>
              <a:tblPr/>
              <a:tblGrid>
                <a:gridCol w="141120"/>
                <a:gridCol w="693720"/>
                <a:gridCol w="604800"/>
                <a:gridCol w="425520"/>
                <a:gridCol w="2398680"/>
              </a:tblGrid>
              <a:tr h="18900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ga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pp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lan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s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sevel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ill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ics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y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i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ssistan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la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oth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345960" y="2346480"/>
          <a:ext cx="4286520" cy="474480"/>
        </p:xfrm>
        <a:graphic>
          <a:graphicData uri="http://schemas.openxmlformats.org/drawingml/2006/table">
            <a:tbl>
              <a:tblPr/>
              <a:tblGrid>
                <a:gridCol w="166680"/>
                <a:gridCol w="612720"/>
                <a:gridCol w="669960"/>
                <a:gridCol w="466920"/>
                <a:gridCol w="23702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uty Program Manager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l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ke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Text Box 260"/>
          <p:cNvSpPr/>
          <p:nvPr/>
        </p:nvSpPr>
        <p:spPr>
          <a:xfrm>
            <a:off x="334800" y="1927080"/>
            <a:ext cx="4216680" cy="30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JAN/ SATCOM PROJECT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61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80"/>
          <p:cNvSpPr/>
          <p:nvPr/>
        </p:nvSpPr>
        <p:spPr>
          <a:xfrm flipV="1" rot="10800000">
            <a:off x="326520" y="3021120"/>
            <a:ext cx="4218120" cy="23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RSC – FSSD GTL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81"/>
          <p:cNvSpPr/>
          <p:nvPr/>
        </p:nvSpPr>
        <p:spPr>
          <a:xfrm>
            <a:off x="2076480" y="143352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82"/>
          <p:cNvSpPr/>
          <p:nvPr/>
        </p:nvSpPr>
        <p:spPr>
          <a:xfrm>
            <a:off x="3100320" y="4513320"/>
            <a:ext cx="33163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Lee Medi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83"/>
          <p:cNvSpPr/>
          <p:nvPr/>
        </p:nvSpPr>
        <p:spPr>
          <a:xfrm>
            <a:off x="758880" y="411804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, N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45960" y="5299200"/>
          <a:ext cx="4286520" cy="1617480"/>
        </p:xfrm>
        <a:graphic>
          <a:graphicData uri="http://schemas.openxmlformats.org/drawingml/2006/table">
            <a:tbl>
              <a:tblPr/>
              <a:tblGrid>
                <a:gridCol w="174600"/>
                <a:gridCol w="633600"/>
                <a:gridCol w="641160"/>
                <a:gridCol w="466920"/>
                <a:gridCol w="2370240"/>
              </a:tblGrid>
              <a:tr h="20772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w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b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op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dona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llic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g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Text Box 457"/>
          <p:cNvSpPr/>
          <p:nvPr/>
        </p:nvSpPr>
        <p:spPr>
          <a:xfrm>
            <a:off x="343080" y="4984920"/>
            <a:ext cx="4217760" cy="21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TWS SHO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58"/>
          <p:cNvSpPr/>
          <p:nvPr/>
        </p:nvSpPr>
        <p:spPr>
          <a:xfrm>
            <a:off x="4975200" y="4973760"/>
            <a:ext cx="4218120" cy="21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PSYOPS TEA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4943520" y="5316480"/>
          <a:ext cx="4330800" cy="1349280"/>
        </p:xfrm>
        <a:graphic>
          <a:graphicData uri="http://schemas.openxmlformats.org/drawingml/2006/table">
            <a:tbl>
              <a:tblPr/>
              <a:tblGrid>
                <a:gridCol w="176040"/>
                <a:gridCol w="828720"/>
                <a:gridCol w="638280"/>
                <a:gridCol w="422280"/>
                <a:gridCol w="2265480"/>
              </a:tblGrid>
              <a:tr h="22716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g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Representative Senior Lead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s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a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penhof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Quin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336600" y="3201840"/>
          <a:ext cx="4116240" cy="571680"/>
        </p:xfrm>
        <a:graphic>
          <a:graphicData uri="http://schemas.openxmlformats.org/drawingml/2006/table">
            <a:tbl>
              <a:tblPr/>
              <a:tblGrid>
                <a:gridCol w="141120"/>
                <a:gridCol w="615960"/>
                <a:gridCol w="614520"/>
                <a:gridCol w="363600"/>
                <a:gridCol w="2381040"/>
              </a:tblGrid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za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li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-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(TY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-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kett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dd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-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Date Placeholder 16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3088-38FF-44D2-9B37-7408D01A15C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176"/>
          <p:cNvSpPr/>
          <p:nvPr/>
        </p:nvSpPr>
        <p:spPr>
          <a:xfrm>
            <a:off x="4950000" y="2844720"/>
            <a:ext cx="432108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 Operations /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62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4952880" y="3121200"/>
          <a:ext cx="4286520" cy="652320"/>
        </p:xfrm>
        <a:graphic>
          <a:graphicData uri="http://schemas.openxmlformats.org/drawingml/2006/table">
            <a:tbl>
              <a:tblPr/>
              <a:tblGrid>
                <a:gridCol w="136800"/>
                <a:gridCol w="693720"/>
                <a:gridCol w="612720"/>
                <a:gridCol w="428400"/>
                <a:gridCol w="2414880"/>
              </a:tblGrid>
              <a:tr h="23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htw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v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ipp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Q 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Text Box 502"/>
          <p:cNvSpPr/>
          <p:nvPr/>
        </p:nvSpPr>
        <p:spPr>
          <a:xfrm>
            <a:off x="396720" y="2851200"/>
            <a:ext cx="4219560" cy="20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IEW Maintenance Divis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409680" y="3773520"/>
          <a:ext cx="4343400" cy="2954160"/>
        </p:xfrm>
        <a:graphic>
          <a:graphicData uri="http://schemas.openxmlformats.org/drawingml/2006/table">
            <a:tbl>
              <a:tblPr/>
              <a:tblGrid>
                <a:gridCol w="195120"/>
                <a:gridCol w="649440"/>
                <a:gridCol w="618840"/>
                <a:gridCol w="414360"/>
                <a:gridCol w="2465640"/>
              </a:tblGrid>
              <a:tr h="217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stro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-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bo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Intermediate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kho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g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 - Intermediate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rily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tlin        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al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-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a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n Foss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g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i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 - Intermediate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nc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Intermediate </a:t>
                      </a: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Starts 04/19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Text Box 584"/>
          <p:cNvSpPr/>
          <p:nvPr/>
        </p:nvSpPr>
        <p:spPr>
          <a:xfrm>
            <a:off x="420840" y="3298680"/>
            <a:ext cx="4217760" cy="32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Jeffery Harbo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85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86"/>
          <p:cNvSpPr/>
          <p:nvPr/>
        </p:nvSpPr>
        <p:spPr>
          <a:xfrm>
            <a:off x="2076480" y="144288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87"/>
          <p:cNvSpPr/>
          <p:nvPr/>
        </p:nvSpPr>
        <p:spPr>
          <a:xfrm>
            <a:off x="3105000" y="2341440"/>
            <a:ext cx="33163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Lee Medi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88"/>
          <p:cNvSpPr/>
          <p:nvPr/>
        </p:nvSpPr>
        <p:spPr>
          <a:xfrm>
            <a:off x="758880" y="1927080"/>
            <a:ext cx="8102520" cy="2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, N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9"/>
          <p:cNvSpPr/>
          <p:nvPr/>
        </p:nvSpPr>
        <p:spPr>
          <a:xfrm>
            <a:off x="4929120" y="3948120"/>
            <a:ext cx="4219560" cy="2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Production Control Sec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000760" y="4175280"/>
          <a:ext cx="4227480" cy="1269720"/>
        </p:xfrm>
        <a:graphic>
          <a:graphicData uri="http://schemas.openxmlformats.org/drawingml/2006/table">
            <a:tbl>
              <a:tblPr/>
              <a:tblGrid>
                <a:gridCol w="172800"/>
                <a:gridCol w="662040"/>
                <a:gridCol w="593640"/>
                <a:gridCol w="424080"/>
                <a:gridCol w="2374920"/>
              </a:tblGrid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ero-Orti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rra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-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ham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wre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4" name="Text Box 649"/>
          <p:cNvSpPr/>
          <p:nvPr/>
        </p:nvSpPr>
        <p:spPr>
          <a:xfrm>
            <a:off x="4894200" y="5703840"/>
            <a:ext cx="4219560" cy="2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Logistic Sec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962600" y="5978520"/>
          <a:ext cx="4267080" cy="1328760"/>
        </p:xfrm>
        <a:graphic>
          <a:graphicData uri="http://schemas.openxmlformats.org/drawingml/2006/table">
            <a:tbl>
              <a:tblPr/>
              <a:tblGrid>
                <a:gridCol w="174600"/>
                <a:gridCol w="630360"/>
                <a:gridCol w="625320"/>
                <a:gridCol w="401760"/>
                <a:gridCol w="2435040"/>
              </a:tblGrid>
              <a:tr h="14436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ki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t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h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ber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r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r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es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Mill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av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Nea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Date Placeholder 15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2108-83D9-4BD5-9F51-BC444CF4785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591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92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93"/>
          <p:cNvSpPr/>
          <p:nvPr/>
        </p:nvSpPr>
        <p:spPr>
          <a:xfrm>
            <a:off x="2076480" y="142236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94"/>
          <p:cNvSpPr/>
          <p:nvPr/>
        </p:nvSpPr>
        <p:spPr>
          <a:xfrm>
            <a:off x="3114720" y="2313000"/>
            <a:ext cx="33163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Lee Medi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95"/>
          <p:cNvSpPr/>
          <p:nvPr/>
        </p:nvSpPr>
        <p:spPr>
          <a:xfrm>
            <a:off x="758880" y="191772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, N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41"/>
          <p:cNvSpPr/>
          <p:nvPr/>
        </p:nvSpPr>
        <p:spPr>
          <a:xfrm>
            <a:off x="6819840" y="3541680"/>
            <a:ext cx="2465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42"/>
          <p:cNvSpPr/>
          <p:nvPr/>
        </p:nvSpPr>
        <p:spPr>
          <a:xfrm>
            <a:off x="6404040" y="3541680"/>
            <a:ext cx="415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43"/>
          <p:cNvSpPr/>
          <p:nvPr/>
        </p:nvSpPr>
        <p:spPr>
          <a:xfrm>
            <a:off x="5786280" y="3541680"/>
            <a:ext cx="617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44"/>
          <p:cNvSpPr/>
          <p:nvPr/>
        </p:nvSpPr>
        <p:spPr>
          <a:xfrm>
            <a:off x="5137200" y="3541680"/>
            <a:ext cx="649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45"/>
          <p:cNvSpPr/>
          <p:nvPr/>
        </p:nvSpPr>
        <p:spPr>
          <a:xfrm>
            <a:off x="4941720" y="3541680"/>
            <a:ext cx="195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76"/>
          <p:cNvSpPr/>
          <p:nvPr/>
        </p:nvSpPr>
        <p:spPr>
          <a:xfrm>
            <a:off x="4941720" y="3541680"/>
            <a:ext cx="187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78"/>
          <p:cNvSpPr/>
          <p:nvPr/>
        </p:nvSpPr>
        <p:spPr>
          <a:xfrm>
            <a:off x="4941720" y="3541680"/>
            <a:ext cx="0" cy="1647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79"/>
          <p:cNvSpPr/>
          <p:nvPr/>
        </p:nvSpPr>
        <p:spPr>
          <a:xfrm>
            <a:off x="9285120" y="3541680"/>
            <a:ext cx="0" cy="1647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80"/>
          <p:cNvSpPr/>
          <p:nvPr/>
        </p:nvSpPr>
        <p:spPr>
          <a:xfrm>
            <a:off x="6819840" y="3541680"/>
            <a:ext cx="246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86"/>
          <p:cNvSpPr/>
          <p:nvPr/>
        </p:nvSpPr>
        <p:spPr>
          <a:xfrm>
            <a:off x="384120" y="2760840"/>
            <a:ext cx="4219560" cy="20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FireFinder Maintenance Divis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787"/>
          <p:cNvSpPr/>
          <p:nvPr/>
        </p:nvSpPr>
        <p:spPr>
          <a:xfrm>
            <a:off x="396720" y="3110040"/>
            <a:ext cx="4219560" cy="32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rank Leona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88"/>
          <p:cNvSpPr/>
          <p:nvPr/>
        </p:nvSpPr>
        <p:spPr>
          <a:xfrm>
            <a:off x="4940280" y="2938320"/>
            <a:ext cx="4218120" cy="20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yetteville ECU Maintenance Division &amp; Shipp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89"/>
          <p:cNvSpPr/>
          <p:nvPr/>
        </p:nvSpPr>
        <p:spPr>
          <a:xfrm>
            <a:off x="4952880" y="3287880"/>
            <a:ext cx="4218120" cy="32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Jerry Turn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919760" y="3611520"/>
          <a:ext cx="4602240" cy="2971800"/>
        </p:xfrm>
        <a:graphic>
          <a:graphicData uri="http://schemas.openxmlformats.org/drawingml/2006/table">
            <a:tbl>
              <a:tblPr/>
              <a:tblGrid>
                <a:gridCol w="115920"/>
                <a:gridCol w="680760"/>
                <a:gridCol w="770040"/>
                <a:gridCol w="432000"/>
                <a:gridCol w="2603520"/>
              </a:tblGrid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VAC Technici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Expres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ellano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nth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v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n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nig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gle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iel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gistician  -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Rectangle 230"/>
          <p:cNvSpPr/>
          <p:nvPr/>
        </p:nvSpPr>
        <p:spPr>
          <a:xfrm>
            <a:off x="615960" y="2174760"/>
            <a:ext cx="1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40"/>
          <p:cNvSpPr/>
          <p:nvPr/>
        </p:nvSpPr>
        <p:spPr>
          <a:xfrm>
            <a:off x="615960" y="4151160"/>
            <a:ext cx="1922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46"/>
          <p:cNvSpPr/>
          <p:nvPr/>
        </p:nvSpPr>
        <p:spPr>
          <a:xfrm>
            <a:off x="673200" y="2392200"/>
            <a:ext cx="1825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282600" y="3538440"/>
          <a:ext cx="4648320" cy="3708360"/>
        </p:xfrm>
        <a:graphic>
          <a:graphicData uri="http://schemas.openxmlformats.org/drawingml/2006/table">
            <a:tbl>
              <a:tblPr/>
              <a:tblGrid>
                <a:gridCol w="165240"/>
                <a:gridCol w="925200"/>
                <a:gridCol w="516240"/>
                <a:gridCol w="420480"/>
                <a:gridCol w="2621160"/>
              </a:tblGrid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l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l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-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echowsk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-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lenbe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Labor Finde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ou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no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Senior Lead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eig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ob 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FST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ield Service Tech-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au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Labor Finde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ck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y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v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m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y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t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Expres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ield Service Tech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Date Placeholder 24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2E0E-7DE6-4C74-8CAA-DAB9D12A3819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537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38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39"/>
          <p:cNvSpPr/>
          <p:nvPr/>
        </p:nvSpPr>
        <p:spPr>
          <a:xfrm>
            <a:off x="2076480" y="144288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40"/>
          <p:cNvSpPr/>
          <p:nvPr/>
        </p:nvSpPr>
        <p:spPr>
          <a:xfrm>
            <a:off x="3084480" y="2322360"/>
            <a:ext cx="33177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Gary Ern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541"/>
          <p:cNvSpPr/>
          <p:nvPr/>
        </p:nvSpPr>
        <p:spPr>
          <a:xfrm>
            <a:off x="758880" y="195732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Gordon, G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3048120" y="2705040"/>
          <a:ext cx="3884400" cy="1515960"/>
        </p:xfrm>
        <a:graphic>
          <a:graphicData uri="http://schemas.openxmlformats.org/drawingml/2006/table">
            <a:tbl>
              <a:tblPr/>
              <a:tblGrid>
                <a:gridCol w="214200"/>
                <a:gridCol w="642960"/>
                <a:gridCol w="604800"/>
                <a:gridCol w="426960"/>
                <a:gridCol w="1995480"/>
              </a:tblGrid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arro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rne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ield Service Technician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Gre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Ke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Harr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Naa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lectronic Technician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yonna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Pett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Stepha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Program Administrator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Text Box 586"/>
          <p:cNvSpPr/>
          <p:nvPr/>
        </p:nvSpPr>
        <p:spPr>
          <a:xfrm>
            <a:off x="766800" y="468648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Campbell, K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3030480" y="5168880"/>
          <a:ext cx="4286160" cy="216000"/>
        </p:xfrm>
        <a:graphic>
          <a:graphicData uri="http://schemas.openxmlformats.org/drawingml/2006/table">
            <a:tbl>
              <a:tblPr/>
              <a:tblGrid>
                <a:gridCol w="228600"/>
                <a:gridCol w="644760"/>
                <a:gridCol w="625320"/>
                <a:gridCol w="412560"/>
                <a:gridCol w="2374920"/>
              </a:tblGrid>
              <a:tr h="21600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9" name="Date Placeholder 9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77D9-11F5-41BD-8B4B-6B4C0D8DA9FC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2354400" y="766800"/>
            <a:ext cx="503532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246240" y="2746440"/>
          <a:ext cx="4279680" cy="3408120"/>
        </p:xfrm>
        <a:graphic>
          <a:graphicData uri="http://schemas.openxmlformats.org/drawingml/2006/table">
            <a:tbl>
              <a:tblPr/>
              <a:tblGrid>
                <a:gridCol w="128520"/>
                <a:gridCol w="880920"/>
                <a:gridCol w="600120"/>
                <a:gridCol w="500040"/>
                <a:gridCol w="2170080"/>
              </a:tblGrid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xan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ssistan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ssingam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ath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 (SE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ath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ry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 (TEM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r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an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chri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ath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w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e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e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o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ing Manager/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kens-Joh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vet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ing Manager/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a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on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perty Management Spec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i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oth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z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t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4883040" y="2828880"/>
          <a:ext cx="4591080" cy="854280"/>
        </p:xfrm>
        <a:graphic>
          <a:graphicData uri="http://schemas.openxmlformats.org/drawingml/2006/table">
            <a:tbl>
              <a:tblPr/>
              <a:tblGrid>
                <a:gridCol w="268560"/>
                <a:gridCol w="479160"/>
                <a:gridCol w="631800"/>
                <a:gridCol w="474840"/>
                <a:gridCol w="2736720"/>
              </a:tblGrid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nnic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gert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ollu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ly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zai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m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Text Box 126"/>
          <p:cNvSpPr/>
          <p:nvPr/>
        </p:nvSpPr>
        <p:spPr>
          <a:xfrm>
            <a:off x="2517480" y="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0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27"/>
          <p:cNvSpPr/>
          <p:nvPr/>
        </p:nvSpPr>
        <p:spPr>
          <a:xfrm flipV="1" rot="10819200">
            <a:off x="5490720" y="4849560"/>
            <a:ext cx="306864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SF Cable Shop- Ft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4886280" y="5349960"/>
          <a:ext cx="4286160" cy="747720"/>
        </p:xfrm>
        <a:graphic>
          <a:graphicData uri="http://schemas.openxmlformats.org/drawingml/2006/table">
            <a:tbl>
              <a:tblPr/>
              <a:tblGrid>
                <a:gridCol w="230400"/>
                <a:gridCol w="620640"/>
                <a:gridCol w="623880"/>
                <a:gridCol w="417600"/>
                <a:gridCol w="2393640"/>
              </a:tblGrid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ou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ay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Z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Entry Lev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wa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jar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iam Z.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Entry Lev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Text Box 155"/>
          <p:cNvSpPr/>
          <p:nvPr/>
        </p:nvSpPr>
        <p:spPr>
          <a:xfrm flipH="1">
            <a:off x="391320" y="6497640"/>
            <a:ext cx="3094200" cy="29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all Y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Ft. Hoo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465120" y="6424560"/>
          <a:ext cx="3575160" cy="138240"/>
        </p:xfrm>
        <a:graphic>
          <a:graphicData uri="http://schemas.openxmlformats.org/drawingml/2006/table">
            <a:tbl>
              <a:tblPr/>
              <a:tblGrid>
                <a:gridCol w="98280"/>
                <a:gridCol w="560520"/>
                <a:gridCol w="469800"/>
                <a:gridCol w="230400"/>
                <a:gridCol w="2216160"/>
              </a:tblGrid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Text Box 168"/>
          <p:cNvSpPr/>
          <p:nvPr/>
        </p:nvSpPr>
        <p:spPr>
          <a:xfrm>
            <a:off x="557280" y="2166840"/>
            <a:ext cx="304632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Oper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Ft. Hoo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69"/>
          <p:cNvSpPr/>
          <p:nvPr/>
        </p:nvSpPr>
        <p:spPr>
          <a:xfrm>
            <a:off x="5734080" y="2166840"/>
            <a:ext cx="3128760" cy="31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Operations/Production Contr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70"/>
          <p:cNvSpPr/>
          <p:nvPr/>
        </p:nvSpPr>
        <p:spPr>
          <a:xfrm>
            <a:off x="5629320" y="4038480"/>
            <a:ext cx="2970000" cy="40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SO9000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Warren Burkl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eld Service Tech-Journeym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71"/>
          <p:cNvSpPr/>
          <p:nvPr/>
        </p:nvSpPr>
        <p:spPr>
          <a:xfrm>
            <a:off x="3270240" y="1446120"/>
            <a:ext cx="304488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harles Vida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Y) Management Specialist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209520" y="6862680"/>
          <a:ext cx="4086360" cy="136440"/>
        </p:xfrm>
        <a:graphic>
          <a:graphicData uri="http://schemas.openxmlformats.org/drawingml/2006/table">
            <a:tbl>
              <a:tblPr/>
              <a:tblGrid>
                <a:gridCol w="154080"/>
                <a:gridCol w="600120"/>
                <a:gridCol w="533160"/>
                <a:gridCol w="266760"/>
                <a:gridCol w="2532240"/>
              </a:tblGrid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dl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Date Placeholder 14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DCB-4E35-44A7-99E8-D001C21FA9D9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898640" y="1047600"/>
            <a:ext cx="5792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522600" y="2239920"/>
            <a:ext cx="299736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/ LBE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230040" y="3022560"/>
          <a:ext cx="4321440" cy="2847960"/>
        </p:xfrm>
        <a:graphic>
          <a:graphicData uri="http://schemas.openxmlformats.org/drawingml/2006/table">
            <a:tbl>
              <a:tblPr/>
              <a:tblGrid>
                <a:gridCol w="185760"/>
                <a:gridCol w="703440"/>
                <a:gridCol w="414360"/>
                <a:gridCol w="374400"/>
                <a:gridCol w="2643480"/>
              </a:tblGrid>
              <a:tr h="1540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v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oi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w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ff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no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da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azi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u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k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tc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a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enber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er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 </a:t>
                      </a:r>
                      <a:r>
                        <a:rPr b="1" lang="en-US" sz="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ef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thal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 </a:t>
                      </a: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Text Box 126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9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27"/>
          <p:cNvSpPr/>
          <p:nvPr/>
        </p:nvSpPr>
        <p:spPr>
          <a:xfrm>
            <a:off x="3500280" y="1731960"/>
            <a:ext cx="304488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harles Vida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erty Management Specialist - Journeym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4570560" y="3035160"/>
          <a:ext cx="4941720" cy="2382840"/>
        </p:xfrm>
        <a:graphic>
          <a:graphicData uri="http://schemas.openxmlformats.org/drawingml/2006/table">
            <a:tbl>
              <a:tblPr/>
              <a:tblGrid>
                <a:gridCol w="207720"/>
                <a:gridCol w="693720"/>
                <a:gridCol w="743040"/>
                <a:gridCol w="434880"/>
                <a:gridCol w="2862360"/>
              </a:tblGrid>
              <a:tr h="12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m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Ke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mo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ndez-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riqu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ch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Analy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zar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i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mac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FS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</a:t>
                      </a:r>
                      <a:r>
                        <a:rPr b="1" lang="en-US" sz="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</a:t>
                      </a:r>
                      <a:r>
                        <a:rPr b="1" lang="en-US" sz="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fo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op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Date Placeholder 7"/>
          <p:cNvSpPr/>
          <p:nvPr/>
        </p:nvSpPr>
        <p:spPr>
          <a:xfrm>
            <a:off x="7431120" y="722160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9BA-CC9C-4506-A498-A689F5E860ED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25:59Z</dcterms:created>
  <dc:creator/>
  <dc:description/>
  <cp:keywords/>
  <dc:language>en-US</dc:language>
  <cp:lastModifiedBy/>
  <dcterms:modified xsi:type="dcterms:W3CDTF">2010-04-09T19:22:38Z</dcterms:modified>
  <cp:revision>44</cp:revision>
  <dc:subject>A001</dc:subject>
  <dc:title>SWA Organization Chart</dc:title>
</cp:coreProperties>
</file>